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33B-EF8A-4FFA-A70B-06740F96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960-9D8E-49E3-88B2-D1689ED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8A0-1268-4178-A2E0-92134958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8E7-A3C6-4023-ACBA-7AEADF2C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F5D22-65FD-4B83-B6A1-04021C0C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818EB-6F6D-4DF6-8A87-1AC77775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BFD2C-998F-4BE2-B3CC-DBD7D015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5B7DD-50E4-4A5A-B497-AFEE55D3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F0812-554C-413B-B9FD-54FB83EE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3A12A-8CAC-4576-B983-E042992F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847FF-87DB-416D-8480-DA6DCC9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28B-9133-4F1D-A06B-77555BF1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6C9B-2B8F-4819-830F-13A1478F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88759-6428-415A-B4F1-B74895E2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4C679-F4AA-4B47-994A-618121BE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3F8C7-70BE-4AF0-87F0-63B4B839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66975-C7CA-439F-9217-A0888D6B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62A6-A2DF-4E63-B2BF-BE3201E9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4BE7-04CB-449A-A5C9-6463230D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945A-1EE9-42DB-A5C9-769A033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699F-D689-4B7C-9BE0-521E591E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9550-75A5-4A32-B927-2229CA82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52E-C2B2-4FCD-A310-B852CC1B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2866-ECDC-4F2E-9D4C-8B7F81F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3E96-0FFE-4DF9-B79D-4B9519EB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C17C-B7A5-43FC-A1FA-A0EA569C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5CD5-64FA-43FA-B04C-39ADACF3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A1B7-748A-4DF2-9679-8A1D2B73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7757-20C1-49BA-8C89-EFCF2532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EF6E-B27E-4E94-ACD9-F8533278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71F65-80C1-4894-8E5F-3FCEB474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9413F-A42A-4DC0-87E2-0D2D27C4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F4251-51CF-450E-A00F-59559898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4BA-998F-4F0B-9E75-4A112D58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7F9D5-2AC2-4ED0-93EF-3FA5CE2C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C25F6-BDF9-4458-9FFC-1595EED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55AD0-9D95-4E39-BEF1-3F95937C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48DFC-7B9F-41F9-AC99-C4E78569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59142-6A7D-44DA-A284-0D3B5CA1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DAB7E4-CD37-4163-B126-C673BFB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C4742-0B6C-42F8-AA64-0F7A09D0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515C1-1CBD-438D-9DAF-5636F607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0E8EEB-F3EF-4747-8FC2-13B29B25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322-60F7-4FD9-A286-FD083304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AC4-2749-4CDC-BE78-C8BD531B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B1E-C6FE-412D-9DB6-3889E39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36D-6B4C-4B0E-B6DE-34569F7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6D5-2025-47E8-93B7-9362158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ABA6-9484-410E-9C09-7C4307BDB549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b2d1f"/>
          </a:solidFill>
          <a:ln w="38160">
            <a:solidFill>
              <a:srgbClr val="9b2d1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608C-0A05-4309-A795-FEEF33BBA811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6867-74E6-4A08-A729-A212CB658DA1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3FC9-8223-47AB-A369-043A6882DC8B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1913, the Deusenberg brothers, Fred and August founded the first automoblie. They were born in Lemgo, Germany, and they were self-taught engineers</a:t>
            </a:r>
            <a:r>
              <a:rPr b="1" lang="en-US" sz="1400" spc="-1" strike="noStrike">
                <a:solidFill>
                  <a:srgbClr val="e9e5dc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603360" y="219240"/>
            <a:ext cx="6645240" cy="131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red.jpg"/>
          <p:cNvPicPr/>
          <p:nvPr/>
        </p:nvPicPr>
        <p:blipFill>
          <a:blip r:embed="rId2"/>
          <a:stretch/>
        </p:blipFill>
        <p:spPr>
          <a:xfrm>
            <a:off x="762120" y="3886200"/>
            <a:ext cx="179856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stevenf\AppData\Local\Microsoft\Windows\Temporary Internet Files\Content.IE5\E66KLH8W\MCj04241880000[1].wmf"/>
          <p:cNvPicPr/>
          <p:nvPr/>
        </p:nvPicPr>
        <p:blipFill>
          <a:blip r:embed="rId3"/>
          <a:stretch/>
        </p:blipFill>
        <p:spPr>
          <a:xfrm>
            <a:off x="6400800" y="685800"/>
            <a:ext cx="2403360" cy="17524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3124080" y="167652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Rockwell"/>
              </a:rPr>
              <a:t>Just think if you didn’t have to walk or ride a horse any more and that you could actually drive a automobile to wherever it is you need to go. Now wouldn’t that be great!!!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2" descr="duesenberg_logo2.gif"/>
          <p:cNvPicPr/>
          <p:nvPr/>
        </p:nvPicPr>
        <p:blipFill>
          <a:blip r:embed="rId4"/>
          <a:stretch/>
        </p:blipFill>
        <p:spPr>
          <a:xfrm>
            <a:off x="6400800" y="5410080"/>
            <a:ext cx="2419200" cy="11052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3"/>
          <p:cNvSpPr/>
          <p:nvPr/>
        </p:nvSpPr>
        <p:spPr>
          <a:xfrm>
            <a:off x="5943600" y="2438280"/>
            <a:ext cx="236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Rockwell"/>
              </a:rPr>
              <a:t>Duesenberg was a United States-based luxury automobile company active in various formsto 1937, most  from 1913 famous for their extremely high-quality, record-breakingly fast roads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200400" y="335268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The automobile is going to be the way to get around in the future. If you ever buy a car you will not regret i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200400" y="457200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The automobile is also fun to drive, and more than one person can ride in it at a time. Most middle class and high class families will be able to afford the automobi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7:08:47Z</dcterms:created>
  <dc:creator>stevenf</dc:creator>
  <dc:description/>
  <dc:language>en-US</dc:language>
  <cp:lastModifiedBy>stevenf</cp:lastModifiedBy>
  <dcterms:modified xsi:type="dcterms:W3CDTF">2009-02-09T17:00:27Z</dcterms:modified>
  <cp:revision>10</cp:revision>
  <dc:subject/>
  <dc:title>Deusenberg  Model A Luxury Car that can travel from place to place?</dc:title>
</cp:coreProperties>
</file>