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C0B-3584-46BA-8FFC-1754406D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DC1-C167-4211-A3BC-ECB2E571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D8C-882C-4571-AD19-B1F4D497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340-7978-4A02-8254-11CA941E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7272F-4CD6-43FB-93C3-B332F186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8C070-D86B-40DF-92FC-61D3101C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CE618-A8B7-40C8-AB23-E7382215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46157-55B5-4935-B2FB-0C470754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341BC-05CD-4871-9561-D5C9107E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80045-D78D-4F0A-AEA1-E1F05616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707A-A498-49D1-A16E-4A59F5C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826-3960-45F1-9FAC-20D17460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48D46-7866-480F-8B71-E41D3C3C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692E8-736C-43B5-9D71-55803C65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875E0-DB18-4723-81F7-44456200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A1F61-53F8-461B-ACF6-FF73515F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A2459-5820-46BA-B9CA-BABA8753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7D5A-BD0D-4752-9179-AFB08D43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03F16-CF69-48E6-9F75-90B06ABD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400EB-02CD-4063-8C71-69E383A5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E78D-5955-4121-8DDD-54AC0628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6AF0-E96F-42C3-BC7B-7C4242B2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800-616B-41D5-B7EB-C66AD0A5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0108-092C-4A3A-B7B4-EE1A8CFA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F33A-9517-4E5A-8D61-F79A6F0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8959-C4D5-442E-965E-32B156DC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91FA-9C24-490E-97E4-6FDB55DD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FD34-7770-405C-9BD3-3F22F4D7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4B1C-8F62-48DA-BA05-CCFCE10F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D40EC-DB69-4678-AB71-E5A7727F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1DEE8-E78E-46CD-9563-E8AC074C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532C2-E0B9-4FDB-9CAA-B8B4E705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49DFE-1893-4189-AE68-97694323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8C2-A036-4714-B30F-54608092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DECE06-5FCD-4D1C-9A05-F367E78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684EF-9B7C-4181-93B6-397E2767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F4E38-A95D-4492-94B4-D098C40F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B74AAD-DE85-4F87-9620-04A74C4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F21AE-D466-46BA-BBF2-A2E72D65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59364-A590-4DC9-A85B-C4EA7CF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95A29-47B4-4879-B5AC-7C42523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4FFDA-B441-44DE-AB31-69FEB6DC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F492C-B47F-4A98-A6AC-701ABB5E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D26-1FB7-40B6-BC84-321C14D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941-A27E-4B50-A8E6-081740E8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F3F-8D36-4B19-A77E-88AA5D0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ABC-481C-417B-AD96-6C95A54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1C5-7407-4D6C-AC32-EB036329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6B2A-CFDC-4C0B-9CB6-043A164AD007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9b2d1f"/>
          </a:solidFill>
          <a:ln w="38160">
            <a:solidFill>
              <a:srgbClr val="9b2d1f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AB6D-E12B-4553-A041-A1974C4BDC2B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1A63-2767-4DEE-A08A-D3494FEBFAA8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b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7288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1004760" indent="-228600">
              <a:spcBef>
                <a:spcPts val="601"/>
              </a:spcBef>
              <a:buClr>
                <a:srgbClr val="711e1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27944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554120" indent="-228600">
              <a:spcBef>
                <a:spcPts val="601"/>
              </a:spcBef>
              <a:buClr>
                <a:srgbClr val="88261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Rockwel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Rockwel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CAA-7579-4390-9BC7-8A579CA6E916}" type="slidenum">
              <a:rPr b="0" lang="en-US" sz="1600" spc="-1" strike="noStrike">
                <a:solidFill>
                  <a:srgbClr val="e9e5dc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e5dc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1913, the Deusenberg brothers, Fred and August founded the first automoblie. They were born in Lemgo, Germany, and they were self-taught engineers</a:t>
            </a:r>
            <a:r>
              <a:rPr b="1" lang="en-US" sz="1400" spc="-1" strike="noStrike">
                <a:solidFill>
                  <a:srgbClr val="e9e5dc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603360" y="219240"/>
            <a:ext cx="6645240" cy="131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red.jpg"/>
          <p:cNvPicPr/>
          <p:nvPr/>
        </p:nvPicPr>
        <p:blipFill>
          <a:blip r:embed="rId2"/>
          <a:stretch/>
        </p:blipFill>
        <p:spPr>
          <a:xfrm>
            <a:off x="762120" y="3886200"/>
            <a:ext cx="179856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stevenf\AppData\Local\Microsoft\Windows\Temporary Internet Files\Content.IE5\E66KLH8W\MCj04241880000[1].wmf"/>
          <p:cNvPicPr/>
          <p:nvPr/>
        </p:nvPicPr>
        <p:blipFill>
          <a:blip r:embed="rId3"/>
          <a:stretch/>
        </p:blipFill>
        <p:spPr>
          <a:xfrm>
            <a:off x="6400800" y="685800"/>
            <a:ext cx="2403360" cy="17524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3124080" y="167652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Rockwell"/>
              </a:rPr>
              <a:t>Just think if you didn’t have to walk or ride a horse any more and that you could actually drive a automobile to wherever it is you need to go. Now wouldn’t that be great!!!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12" descr="duesenberg_logo2.gif"/>
          <p:cNvPicPr/>
          <p:nvPr/>
        </p:nvPicPr>
        <p:blipFill>
          <a:blip r:embed="rId4"/>
          <a:stretch/>
        </p:blipFill>
        <p:spPr>
          <a:xfrm>
            <a:off x="6400800" y="5410080"/>
            <a:ext cx="2419200" cy="11052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3"/>
          <p:cNvSpPr/>
          <p:nvPr/>
        </p:nvSpPr>
        <p:spPr>
          <a:xfrm>
            <a:off x="5943600" y="2438280"/>
            <a:ext cx="2362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Rockwell"/>
              </a:rPr>
              <a:t>Duesenberg was a United States-based luxury automobile company active in various formsto 1937, most  from 1913 famous for their extremely high-quality, record-breakingly fast roadst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3200400" y="3352680"/>
            <a:ext cx="243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The automobile is going to be the way to get around in the future. If you ever buy a car you will not regret i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200400" y="4572000"/>
            <a:ext cx="2362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The automobile is also fun to drive, and more than one person can ride in it at a time. Most middle class and high class families will be able to afford the automobi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7:08:47Z</dcterms:created>
  <dc:creator>stevenf</dc:creator>
  <dc:description/>
  <dc:language>en-US</dc:language>
  <cp:lastModifiedBy>stevenf</cp:lastModifiedBy>
  <dcterms:modified xsi:type="dcterms:W3CDTF">2009-02-09T17:00:27Z</dcterms:modified>
  <cp:revision>10</cp:revision>
  <dc:subject/>
  <dc:title>Deusenberg  Model A Luxury Car that can travel from place to place?</dc:title>
</cp:coreProperties>
</file>