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6F6-29E3-464D-B98D-9035777B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8BC-0BE3-4E82-B466-4169F51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4B9-B8AE-430F-A91C-F9BEE820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5DD-2583-421A-9652-0DFA9F87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E59-24C7-4417-933E-65F599C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DAC-3352-430D-ADD3-D5EBA07F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641-AFB5-447A-83AB-814AEB48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3DE-2036-45C8-AAE2-6D2BEA0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21B-05F4-4229-8CDE-5FF0324C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3A7-1D73-456B-BB89-9D335F2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83E-DF2C-4539-BA5B-CE558C7E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3D5-21A5-4966-B5F8-8A267A7C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F69-BBB2-43E3-BDD0-0F8B24234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b6bd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502920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 rot="21202200">
            <a:off x="363960" y="2175480"/>
            <a:ext cx="2201760" cy="2466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In 1924, the Kleenex brand of facial tissue was first introduced. Kleenex tissue was invented as a means to remove cold cream. Early advertisements linked Kleenex to Hollywood makeup departments and sometimes included endorsements from movie stars who used Kleenex to remove their theatrical make-up with cold c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"/>
          <p:cNvPicPr/>
          <p:nvPr/>
        </p:nvPicPr>
        <p:blipFill>
          <a:blip r:embed="rId2"/>
          <a:stretch/>
        </p:blipFill>
        <p:spPr>
          <a:xfrm rot="21282000">
            <a:off x="3036960" y="2049480"/>
            <a:ext cx="1542960" cy="1476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1905120" cy="1095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"/>
          <p:cNvPicPr/>
          <p:nvPr/>
        </p:nvPicPr>
        <p:blipFill>
          <a:blip r:embed="rId4"/>
          <a:stretch/>
        </p:blipFill>
        <p:spPr>
          <a:xfrm rot="548400">
            <a:off x="4854240" y="2507760"/>
            <a:ext cx="1905120" cy="836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8"/>
          <p:cNvSpPr/>
          <p:nvPr/>
        </p:nvSpPr>
        <p:spPr>
          <a:xfrm>
            <a:off x="380880" y="5334120"/>
            <a:ext cx="8305920" cy="824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KLEENEX® means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premium quality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, softness and home-like comfort. Patented manufacturing advancements such as Absorbency Pockets with Fast Drying Ridges for Towels make KLEENEX® products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unique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. Complete your restroom portfolio with KLEENEX®,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America's #1 brand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 of facial tissue. When users reach for KLEENEX® facial tissue, they know they're getting the leading brand - the one they use at home with </a:t>
            </a:r>
            <a:r>
              <a:rPr b="1" lang="en-US" sz="1200" spc="-1" strike="noStrike">
                <a:solidFill>
                  <a:srgbClr val="000000"/>
                </a:solidFill>
                <a:latin typeface="Hurry Up"/>
              </a:rPr>
              <a:t>confidence</a:t>
            </a:r>
            <a:r>
              <a:rPr b="0" lang="en-US" sz="1200" spc="-1" strike="noStrike">
                <a:solidFill>
                  <a:srgbClr val="000000"/>
                </a:solidFill>
                <a:latin typeface="Hurry Up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0"/>
          <p:cNvSpPr/>
          <p:nvPr/>
        </p:nvSpPr>
        <p:spPr>
          <a:xfrm rot="339000">
            <a:off x="7071480" y="1730160"/>
            <a:ext cx="1549440" cy="3123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urry Up"/>
              </a:rPr>
              <a:t>Limited Time Off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urry Up"/>
              </a:rPr>
              <a:t>Buy any 2 Kleenex Products get the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urry Up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Hurry Up"/>
              </a:rPr>
              <a:t> HALF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urry Up"/>
              </a:rPr>
              <a:t>lasts through 3/1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11" descr=""/>
          <p:cNvPicPr/>
          <p:nvPr/>
        </p:nvPicPr>
        <p:blipFill>
          <a:blip r:embed="rId5"/>
          <a:stretch/>
        </p:blipFill>
        <p:spPr>
          <a:xfrm>
            <a:off x="-171360" y="1268280"/>
            <a:ext cx="3146400" cy="1036800"/>
          </a:xfrm>
          <a:prstGeom prst="rect">
            <a:avLst/>
          </a:prstGeom>
          <a:ln w="0">
            <a:noFill/>
          </a:ln>
        </p:spPr>
      </p:pic>
      <p:sp>
        <p:nvSpPr>
          <p:cNvPr id="50" name="Down Arrow 12"/>
          <p:cNvSpPr/>
          <p:nvPr/>
        </p:nvSpPr>
        <p:spPr>
          <a:xfrm rot="1202400">
            <a:off x="7924680" y="380880"/>
            <a:ext cx="838440" cy="12193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3:28:12Z</dcterms:created>
  <dc:creator>Megan</dc:creator>
  <dc:description/>
  <dc:language>en-US</dc:language>
  <cp:lastModifiedBy>aimeem</cp:lastModifiedBy>
  <dcterms:modified xsi:type="dcterms:W3CDTF">2009-02-12T18:23:43Z</dcterms:modified>
  <cp:revision>3</cp:revision>
  <dc:subject/>
  <dc:title>Slide 1</dc:title>
</cp:coreProperties>
</file>