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7B0-83C5-4871-BE15-764335B9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BEE-80CC-41F7-9B25-EB5E1A72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8E2-1B4A-4519-AE85-8D4F6778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27A-DD60-4108-A0C9-5172DFCD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964A-68A8-4BDA-9A5A-64CB1345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D81-728E-4C7E-888B-68DCEDB4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164B-FC95-473C-B041-D96D58CE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207-87DE-4AF8-8F26-E44831EE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0F1-696D-4E2C-BD94-3F68C0CC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0EA-B2A8-4E8F-8A67-6BD3C2AB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B28-7FE0-4943-8E5D-00E00C94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7E35-78E9-4A1C-8811-27E234C0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5BF2-0D67-4EBE-AA14-1CA046539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b6bd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02920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 rot="21202200">
            <a:off x="363960" y="2175480"/>
            <a:ext cx="2201760" cy="2466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In 1924, the Kleenex brand of facial tissue was first introduced. Kleenex tissue was invented as a means to remove cold cream. Early advertisements linked Kleenex to Hollywood makeup departments and sometimes included endorsements from movie stars who used Kleenex to remove their theatrical make-up with cold c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"/>
          <p:cNvPicPr/>
          <p:nvPr/>
        </p:nvPicPr>
        <p:blipFill>
          <a:blip r:embed="rId2"/>
          <a:stretch/>
        </p:blipFill>
        <p:spPr>
          <a:xfrm rot="21282000">
            <a:off x="3036960" y="2049480"/>
            <a:ext cx="1542960" cy="147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1905120" cy="109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"/>
          <p:cNvPicPr/>
          <p:nvPr/>
        </p:nvPicPr>
        <p:blipFill>
          <a:blip r:embed="rId4"/>
          <a:stretch/>
        </p:blipFill>
        <p:spPr>
          <a:xfrm rot="548400">
            <a:off x="4854240" y="2507760"/>
            <a:ext cx="190512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8"/>
          <p:cNvSpPr/>
          <p:nvPr/>
        </p:nvSpPr>
        <p:spPr>
          <a:xfrm>
            <a:off x="380880" y="5334120"/>
            <a:ext cx="8305920" cy="8240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KLEENEX® means </a:t>
            </a:r>
            <a:r>
              <a:rPr b="1" lang="en-US" sz="1200" spc="-1" strike="noStrike">
                <a:solidFill>
                  <a:srgbClr val="000000"/>
                </a:solidFill>
                <a:latin typeface="Hurry Up"/>
              </a:rPr>
              <a:t>premium quality</a:t>
            </a: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, softness and home-like comfort. Patented manufacturing advancements such as Absorbency Pockets with Fast Drying Ridges for Towels make KLEENEX® products </a:t>
            </a:r>
            <a:r>
              <a:rPr b="1" lang="en-US" sz="1200" spc="-1" strike="noStrike">
                <a:solidFill>
                  <a:srgbClr val="000000"/>
                </a:solidFill>
                <a:latin typeface="Hurry Up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. Complete your restroom portfolio with KLEENEX®, </a:t>
            </a:r>
            <a:r>
              <a:rPr b="1" lang="en-US" sz="1200" spc="-1" strike="noStrike">
                <a:solidFill>
                  <a:srgbClr val="000000"/>
                </a:solidFill>
                <a:latin typeface="Hurry Up"/>
              </a:rPr>
              <a:t>America's #1 brand</a:t>
            </a: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 of facial tissue. When users reach for KLEENEX® facial tissue, they know they're getting the leading brand - the one they use at home with </a:t>
            </a:r>
            <a:r>
              <a:rPr b="1" lang="en-US" sz="1200" spc="-1" strike="noStrike">
                <a:solidFill>
                  <a:srgbClr val="000000"/>
                </a:solidFill>
                <a:latin typeface="Hurry Up"/>
              </a:rPr>
              <a:t>confidence</a:t>
            </a: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0"/>
          <p:cNvSpPr/>
          <p:nvPr/>
        </p:nvSpPr>
        <p:spPr>
          <a:xfrm rot="339000">
            <a:off x="7071480" y="1730160"/>
            <a:ext cx="1549440" cy="312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urry Up"/>
              </a:rPr>
              <a:t>Limited Time Of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rry Up"/>
              </a:rPr>
              <a:t>Buy any 2 Kleenex Products get the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urry Up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Hurry Up"/>
              </a:rPr>
              <a:t> HALF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urry Up"/>
              </a:rPr>
              <a:t>lasts through 3/1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11" descr=""/>
          <p:cNvPicPr/>
          <p:nvPr/>
        </p:nvPicPr>
        <p:blipFill>
          <a:blip r:embed="rId5"/>
          <a:stretch/>
        </p:blipFill>
        <p:spPr>
          <a:xfrm>
            <a:off x="-171360" y="1268280"/>
            <a:ext cx="3146400" cy="1036800"/>
          </a:xfrm>
          <a:prstGeom prst="rect">
            <a:avLst/>
          </a:prstGeom>
          <a:ln w="0">
            <a:noFill/>
          </a:ln>
        </p:spPr>
      </p:pic>
      <p:sp>
        <p:nvSpPr>
          <p:cNvPr id="50" name="Down Arrow 12"/>
          <p:cNvSpPr/>
          <p:nvPr/>
        </p:nvSpPr>
        <p:spPr>
          <a:xfrm rot="1202400">
            <a:off x="7924680" y="380880"/>
            <a:ext cx="838440" cy="12193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3:28:12Z</dcterms:created>
  <dc:creator>Megan</dc:creator>
  <dc:description/>
  <dc:language>en-US</dc:language>
  <cp:lastModifiedBy>aimeem</cp:lastModifiedBy>
  <dcterms:modified xsi:type="dcterms:W3CDTF">2009-02-12T18:23:43Z</dcterms:modified>
  <cp:revision>3</cp:revision>
  <dc:subject/>
  <dc:title>Slide 1</dc:title>
</cp:coreProperties>
</file>