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7137-AD33-46B5-81AD-8E917A10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3F2D-DA00-4B46-862C-37A47283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7F35-0D5E-4457-9A14-DABA4B14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7C98-59C9-468A-B798-45347E8D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7EE-D2E6-4579-8E8C-44B46E38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E4A4-993C-43EC-AEDB-C664C1F3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A86-6AB9-408B-8A9F-6A1FFB2C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B01-9973-4EBF-802A-330715D9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0C14-CA0F-4437-91B3-4048E5C8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1316-417F-43E7-8B39-1710FBF9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520-FBC2-4007-BB74-ABFA8355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8DF6-336D-4208-A6EA-18966628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EEA1-FA17-4B3F-B76F-10F879A59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4"/>
          <p:cNvSpPr/>
          <p:nvPr/>
        </p:nvSpPr>
        <p:spPr>
          <a:xfrm rot="5400000">
            <a:off x="228600" y="-228600"/>
            <a:ext cx="3733920" cy="419112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0"/>
            <a:ext cx="4267080" cy="3124080"/>
          </a:xfrm>
          <a:prstGeom prst="irregularSeal2">
            <a:avLst/>
          </a:prstGeom>
          <a:solidFill>
            <a:srgbClr val="ff990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 rot="20014800">
            <a:off x="850680" y="875520"/>
            <a:ext cx="28195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low Solid Italic"/>
              </a:rPr>
              <a:t>Breakf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low Solid Italic"/>
              </a:rPr>
              <a:t>of Champ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5" descr="WheatiesBox"/>
          <p:cNvPicPr/>
          <p:nvPr/>
        </p:nvPicPr>
        <p:blipFill>
          <a:blip r:embed="rId1"/>
          <a:stretch/>
        </p:blipFill>
        <p:spPr>
          <a:xfrm>
            <a:off x="838080" y="4495680"/>
            <a:ext cx="1646280" cy="2038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6"/>
          <p:cNvSpPr/>
          <p:nvPr/>
        </p:nvSpPr>
        <p:spPr>
          <a:xfrm>
            <a:off x="4038480" y="1066680"/>
            <a:ext cx="49532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eneral Mills has released it’s newest product, Wheaties! Wheaties is a healthy, whole wheat cereal that was accidentally created in 1922, then perfected in 1924. Wheaties was created in order to provide a healthy breakfast for people.  The cereal became associated with sports in 1934 and has since then featured sports athletes on the boxes. Wheaties has been a healthy choice for breakfast in the past and will continue to provide nutrition to </a:t>
            </a: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everyone in the years to c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7"/>
          <p:cNvSpPr/>
          <p:nvPr/>
        </p:nvSpPr>
        <p:spPr>
          <a:xfrm>
            <a:off x="2666880" y="4038480"/>
            <a:ext cx="33530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Light"/>
              </a:rPr>
              <a:t>Th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Light"/>
              </a:rPr>
              <a:t>like a Champ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Light"/>
              </a:rPr>
              <a:t>Train</a:t>
            </a:r>
            <a:r>
              <a:rPr b="0" lang="en-US" sz="1800" spc="-1" strike="noStrike">
                <a:solidFill>
                  <a:srgbClr val="000000"/>
                </a:solidFill>
                <a:latin typeface="Copperplate Gothic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Light"/>
              </a:rPr>
              <a:t>like a Champ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pperplate Gothic Bold"/>
              </a:rPr>
              <a:t>EAT</a:t>
            </a: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Light"/>
              </a:rPr>
              <a:t>like a Champ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8"/>
          <p:cNvSpPr/>
          <p:nvPr/>
        </p:nvSpPr>
        <p:spPr>
          <a:xfrm>
            <a:off x="457200" y="3352680"/>
            <a:ext cx="2743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low Solid Italic"/>
              </a:rPr>
              <a:t>Invented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low Solid Italic"/>
              </a:rPr>
              <a:t>George Corma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9"/>
          <p:cNvSpPr/>
          <p:nvPr/>
        </p:nvSpPr>
        <p:spPr>
          <a:xfrm>
            <a:off x="5105520" y="37339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nyx"/>
              </a:rPr>
              <a:t>Start your day off like a champion by eating a bowl of Whea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31"/>
          <p:cNvSpPr txBox="1"/>
          <p:nvPr/>
        </p:nvSpPr>
        <p:spPr>
          <a:xfrm>
            <a:off x="3962520" y="304920"/>
            <a:ext cx="5010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9933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AVE YOU TRIED WHEATIES?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9933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3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4" descr="phelpswheaties"/>
          <p:cNvPicPr/>
          <p:nvPr/>
        </p:nvPicPr>
        <p:blipFill>
          <a:blip r:embed="rId2"/>
          <a:stretch/>
        </p:blipFill>
        <p:spPr>
          <a:xfrm>
            <a:off x="5791320" y="4114800"/>
            <a:ext cx="145404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5" descr="general mills"/>
          <p:cNvPicPr/>
          <p:nvPr/>
        </p:nvPicPr>
        <p:blipFill>
          <a:blip r:embed="rId3"/>
          <a:stretch/>
        </p:blipFill>
        <p:spPr>
          <a:xfrm>
            <a:off x="2971800" y="2666880"/>
            <a:ext cx="9144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1:15:31Z</dcterms:created>
  <dc:creator>Rob</dc:creator>
  <dc:description/>
  <dc:language>en-US</dc:language>
  <cp:lastModifiedBy>allisonrf</cp:lastModifiedBy>
  <dcterms:modified xsi:type="dcterms:W3CDTF">2009-02-09T20:10:04Z</dcterms:modified>
  <cp:revision>7</cp:revision>
  <dc:subject/>
  <dc:title>Slide 1</dc:title>
</cp:coreProperties>
</file>