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D260-81B2-4027-9C81-A31692CE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D2A-5962-4995-AED9-318EED94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38B1-2DAD-4360-9790-4A202E8A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EF7-7203-4E74-B35E-631C89FB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A714-9831-469E-ABD0-898710C1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0A0-5BD7-4DB9-A3BA-62353E37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6AA-173E-4502-932F-119173EC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872-1BBC-4708-A721-1942F0C6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8E6-ACB7-4129-A4EC-EFD4839E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0B1-E8E0-426B-B37F-1C0008A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9F2-D64A-48B6-9BE6-5F5983EF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BEF-695B-42D3-892E-D86A73F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8C0D-7627-4576-A51D-D05214F99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4"/>
          <p:cNvSpPr/>
          <p:nvPr/>
        </p:nvSpPr>
        <p:spPr>
          <a:xfrm rot="5400000">
            <a:off x="228600" y="-228600"/>
            <a:ext cx="3733920" cy="41911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0"/>
            <a:ext cx="4267080" cy="3124080"/>
          </a:xfrm>
          <a:prstGeom prst="irregularSeal2">
            <a:avLst/>
          </a:prstGeom>
          <a:solidFill>
            <a:srgbClr val="ff99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 rot="20014800">
            <a:off x="850680" y="875520"/>
            <a:ext cx="2819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low Solid Italic"/>
              </a:rPr>
              <a:t>Breakf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rlow Solid Italic"/>
              </a:rPr>
              <a:t>of Champ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5" descr="WheatiesBox"/>
          <p:cNvPicPr/>
          <p:nvPr/>
        </p:nvPicPr>
        <p:blipFill>
          <a:blip r:embed="rId1"/>
          <a:stretch/>
        </p:blipFill>
        <p:spPr>
          <a:xfrm>
            <a:off x="838080" y="4495680"/>
            <a:ext cx="1646280" cy="2038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6"/>
          <p:cNvSpPr/>
          <p:nvPr/>
        </p:nvSpPr>
        <p:spPr>
          <a:xfrm>
            <a:off x="4038480" y="1066680"/>
            <a:ext cx="49532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eneral Mills has released it’s newest product, Wheaties! Wheaties is a healthy, whole wheat cereal that was accidentally created in 1922, then perfected in 1924. Wheaties was created in order to provide a healthy breakfast for people.  The cereal became associated with sports in 1934 and has since then featured sports athletes on the boxes. Wheaties has been a healthy choice for breakfast in the past and will continue to provide nutrition to 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everyone in the years to c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7"/>
          <p:cNvSpPr/>
          <p:nvPr/>
        </p:nvSpPr>
        <p:spPr>
          <a:xfrm>
            <a:off x="2666880" y="4038480"/>
            <a:ext cx="3353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ike a Champ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pperplate Gothic Light"/>
              </a:rPr>
              <a:t>Train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ike a Champ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pperplate Gothic Bold"/>
              </a:rPr>
              <a:t>EAT</a:t>
            </a:r>
            <a:r>
              <a:rPr b="0" lang="en-US" sz="18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pperplate Gothic Light"/>
              </a:rPr>
              <a:t>like a Champ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8"/>
          <p:cNvSpPr/>
          <p:nvPr/>
        </p:nvSpPr>
        <p:spPr>
          <a:xfrm>
            <a:off x="457200" y="3352680"/>
            <a:ext cx="2743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low Solid Italic"/>
              </a:rPr>
              <a:t>Invent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low Solid Italic"/>
              </a:rPr>
              <a:t>George Corm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9"/>
          <p:cNvSpPr/>
          <p:nvPr/>
        </p:nvSpPr>
        <p:spPr>
          <a:xfrm>
            <a:off x="5105520" y="37339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yx"/>
              </a:rPr>
              <a:t>Start your day off like a champion by eating a bowl of Whea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1"/>
          <p:cNvSpPr txBox="1"/>
          <p:nvPr/>
        </p:nvSpPr>
        <p:spPr>
          <a:xfrm>
            <a:off x="3962520" y="304920"/>
            <a:ext cx="5010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33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VE YOU TRIED WHEATIES?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9933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3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phelpswheaties"/>
          <p:cNvPicPr/>
          <p:nvPr/>
        </p:nvPicPr>
        <p:blipFill>
          <a:blip r:embed="rId2"/>
          <a:stretch/>
        </p:blipFill>
        <p:spPr>
          <a:xfrm>
            <a:off x="5791320" y="4114800"/>
            <a:ext cx="14540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general mills"/>
          <p:cNvPicPr/>
          <p:nvPr/>
        </p:nvPicPr>
        <p:blipFill>
          <a:blip r:embed="rId3"/>
          <a:stretch/>
        </p:blipFill>
        <p:spPr>
          <a:xfrm>
            <a:off x="2971800" y="2666880"/>
            <a:ext cx="9144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1:15:31Z</dcterms:created>
  <dc:creator>Rob</dc:creator>
  <dc:description/>
  <dc:language>en-US</dc:language>
  <cp:lastModifiedBy>allisonrf</cp:lastModifiedBy>
  <dcterms:modified xsi:type="dcterms:W3CDTF">2009-02-09T20:10:04Z</dcterms:modified>
  <cp:revision>7</cp:revision>
  <dc:subject/>
  <dc:title>Slide 1</dc:title>
</cp:coreProperties>
</file>