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776-7883-4255-87E8-3A80A1F3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D429-56DA-4695-9386-70395F5D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C01A-59AD-4422-9B13-8FA189B0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193-448A-42FA-9BDB-69D04760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667B-C93B-4886-937C-1BCD76F0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9F0D-904C-42A7-955A-17FE7252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C720-5FAA-4763-AFE6-4BF6F2BF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59EF-ADE7-437F-BFFD-395D87DA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AF72-EF88-4A97-B820-EA9B6DD4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BB85-CFF8-4F71-8F0E-E7FF9ADB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120E-89CE-4255-9180-5EE8836D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5EE-7116-47B0-B690-EADEB983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E3D9-55B4-4733-A7E1-24BC18EF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34BA-798A-4E97-9A6F-BF6C724B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6D92-45CF-413D-B46D-BFA026B4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95F7-5F87-4CF5-B8F2-080930D6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9323-B6CB-497A-AD59-3BD7D053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C270D-6AA9-47A4-AD39-F3A4C9C3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ED5F5-6F68-4AA5-8210-2BC550D3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396BE-4D28-43C2-9010-DE506C92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5C8E-07C7-457D-8A8C-605C4D79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F9229-300F-4D94-9AAE-39B788BF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234-66E4-4563-B1F4-46ACD211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E4928-4E10-46E8-8486-F5EB8CEF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47173-F360-4A03-945D-622F8D35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049CA-6A15-40C3-912D-97DAEC24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BB78E-2E8D-4C80-A3B4-A3453BB2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0AE94-1256-48BB-B079-19534527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6368D-1989-4D09-B851-7FD82F7C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BA420-7F21-40C5-94FD-B870CBD6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B3EDA-EC27-4657-98E4-1A91E2F8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4B2D6-C95B-445B-892D-2871F1F4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DADD9-BBDB-48C8-B4F6-1E30EBB0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54A-0470-4FDA-A48D-E5492FA2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FAA7A-EEB8-4AB9-B0F5-79E5CD9E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6B3C8-C48A-44E2-AD3F-B3208A9E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A74D3-1DA4-41CB-AC1E-69A42878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D999E-095F-4832-8B6D-DFFA1C5C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88EEE-2F75-4C72-AF51-3900BD77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9B5F8-788F-4D57-8CA9-37FCBEC4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CE13D-CBFE-4540-B3DB-F81D6E88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FE47E-E7F6-455A-9A18-03D51F78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1C6A0-3C51-4DC2-B2F2-21A6C72C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11CFB-E0A8-404F-9E81-D2FF9145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652-6F4F-4DE0-B97F-28C24D96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BD320-8F1D-4337-A031-8D537E85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B6DFF-C075-44AA-82D2-DC47EDE2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81B12-FE2C-4B7F-B51A-961A2616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1F641-D201-41F8-8036-C2EF959A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E01DB-B025-436E-93CE-9714910A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D77C7-4EE0-4AB1-909B-5C9D8B0A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81F8C-F954-4AA1-B153-4D07240C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6DFBA-6FD8-4A85-9BBC-D7655F58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2B6C4-54A3-4D12-9263-85BBFB17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C1ED6-E709-4D3E-989D-CBDCDCC9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2C2-6331-4B3B-BC32-03E75756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EB112-7E12-45EF-9A73-5F4C8EC7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DD46-152D-4867-A5EA-A0C3713A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515-D62D-4C58-964C-AE20747F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5641-2DEC-491B-9836-BC242D6A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57F5-629F-4A33-ABEB-B8168151D316}" type="slidenum">
              <a:rPr b="0" lang="en-US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E2D1-9B23-4887-B6EA-0F62015141E7}" type="slidenum">
              <a:rPr b="0" lang="en-US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0058-DF6F-42CB-87D0-548549DCCC40}" type="slidenum">
              <a:rPr b="0" lang="en-US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2BFE-ABFA-4715-9B77-7205BC0CFB66}" type="slidenum">
              <a:rPr b="0" lang="en-US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9CC0-6F38-4B79-B686-0850D08A5F6F}" type="slidenum">
              <a:rPr b="0" lang="en-US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095520"/>
            <a:ext cx="1828800" cy="381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Briton</a:t>
            </a:r>
            <a:r>
              <a:rPr b="0" lang="en-US" sz="1400" spc="-1" strike="noStrike">
                <a:solidFill>
                  <a:srgbClr val="5cadc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Hadden</a:t>
            </a:r>
            <a:br>
              <a:rPr sz="1800"/>
            </a:br>
            <a:endParaRPr b="1" lang="en-US" sz="1400" spc="-1" strike="noStrike">
              <a:solidFill>
                <a:srgbClr val="5cadc6"/>
              </a:solidFill>
              <a:latin typeface="Verdana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1"/>
          <a:stretch/>
        </p:blipFill>
        <p:spPr>
          <a:xfrm>
            <a:off x="2341440" y="-42840"/>
            <a:ext cx="4834080" cy="576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Go to fullsize image"/>
          <p:cNvPicPr/>
          <p:nvPr/>
        </p:nvPicPr>
        <p:blipFill>
          <a:blip r:embed="rId2"/>
          <a:stretch/>
        </p:blipFill>
        <p:spPr>
          <a:xfrm>
            <a:off x="646200" y="3498840"/>
            <a:ext cx="1670040" cy="4761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1"/>
          <p:cNvSpPr/>
          <p:nvPr/>
        </p:nvSpPr>
        <p:spPr>
          <a:xfrm>
            <a:off x="7162920" y="5958720"/>
            <a:ext cx="128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enry L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3"/>
          <a:stretch/>
        </p:blipFill>
        <p:spPr>
          <a:xfrm>
            <a:off x="6870600" y="3408480"/>
            <a:ext cx="1755720" cy="2504880"/>
          </a:xfrm>
          <a:prstGeom prst="rect">
            <a:avLst/>
          </a:prstGeom>
          <a:ln w="0">
            <a:noFill/>
          </a:ln>
        </p:spPr>
      </p:pic>
      <p:pic>
        <p:nvPicPr>
          <p:cNvPr id="225" name="Text Box 14" descr=""/>
          <p:cNvPicPr/>
          <p:nvPr/>
        </p:nvPicPr>
        <p:blipFill>
          <a:blip r:embed="rId4"/>
          <a:stretch/>
        </p:blipFill>
        <p:spPr>
          <a:xfrm>
            <a:off x="268200" y="5237280"/>
            <a:ext cx="7120080" cy="2187360"/>
          </a:xfrm>
          <a:prstGeom prst="rect">
            <a:avLst/>
          </a:prstGeom>
          <a:ln w="0">
            <a:noFill/>
          </a:ln>
        </p:spPr>
      </p:pic>
      <p:pic>
        <p:nvPicPr>
          <p:cNvPr id="226" name="Rectangle 11" descr=""/>
          <p:cNvPicPr/>
          <p:nvPr/>
        </p:nvPicPr>
        <p:blipFill>
          <a:blip r:embed="rId5"/>
          <a:stretch/>
        </p:blipFill>
        <p:spPr>
          <a:xfrm>
            <a:off x="1432080" y="6486480"/>
            <a:ext cx="6243480" cy="378000"/>
          </a:xfrm>
          <a:prstGeom prst="rect">
            <a:avLst/>
          </a:prstGeom>
          <a:ln w="0">
            <a:noFill/>
          </a:ln>
        </p:spPr>
      </p:pic>
      <p:pic>
        <p:nvPicPr>
          <p:cNvPr id="227" name="Rectangle 12" descr=""/>
          <p:cNvPicPr/>
          <p:nvPr/>
        </p:nvPicPr>
        <p:blipFill>
          <a:blip r:embed="rId6"/>
          <a:stretch/>
        </p:blipFill>
        <p:spPr>
          <a:xfrm>
            <a:off x="6851520" y="6016680"/>
            <a:ext cx="2298960" cy="347760"/>
          </a:xfrm>
          <a:prstGeom prst="rect">
            <a:avLst/>
          </a:prstGeom>
          <a:ln w="0">
            <a:noFill/>
          </a:ln>
        </p:spPr>
      </p:pic>
      <p:sp>
        <p:nvSpPr>
          <p:cNvPr id="228" name="Round Diagonal Corner Rectangle 17"/>
          <p:cNvSpPr/>
          <p:nvPr/>
        </p:nvSpPr>
        <p:spPr>
          <a:xfrm>
            <a:off x="6553080" y="609480"/>
            <a:ext cx="2133720" cy="2590920"/>
          </a:xfrm>
          <a:prstGeom prst="pie">
            <a:avLst/>
          </a:prstGeom>
          <a:solidFill>
            <a:srgbClr val="3891a7"/>
          </a:solidFill>
          <a:ln w="424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400800" y="685440"/>
            <a:ext cx="2362320" cy="2057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Boopee"/>
              </a:rPr>
              <a:t>Time began as a simple black and white magazine, and it now has become full of color. Secondly, it went from just a magazine to becoming broadcasted over the radio and also on tv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Snip Diagonal Corner Rectangle 19"/>
          <p:cNvSpPr/>
          <p:nvPr/>
        </p:nvSpPr>
        <p:spPr>
          <a:xfrm>
            <a:off x="380880" y="533520"/>
            <a:ext cx="2286000" cy="2895480"/>
          </a:xfrm>
          <a:prstGeom prst="pie">
            <a:avLst/>
          </a:prstGeom>
          <a:solidFill>
            <a:srgbClr val="3891a7"/>
          </a:solidFill>
          <a:ln w="424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Text Box 13" descr=""/>
          <p:cNvPicPr/>
          <p:nvPr/>
        </p:nvPicPr>
        <p:blipFill>
          <a:blip r:embed="rId7"/>
          <a:stretch/>
        </p:blipFill>
        <p:spPr>
          <a:xfrm>
            <a:off x="401760" y="652320"/>
            <a:ext cx="2354040" cy="259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0:40:59Z</dcterms:created>
  <dc:creator>Coreil</dc:creator>
  <dc:description/>
  <dc:language>en-US</dc:language>
  <cp:lastModifiedBy>laurac</cp:lastModifiedBy>
  <dcterms:modified xsi:type="dcterms:W3CDTF">2009-02-09T19:17:32Z</dcterms:modified>
  <cp:revision>10</cp:revision>
  <dc:subject/>
  <dc:title>Slide 1</dc:title>
</cp:coreProperties>
</file>