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6B3-74EB-4FE0-A6A2-79350300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548-F099-4AF2-9104-2C9FB69B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DD8-2A3E-47C8-8E23-314BBC89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3FE-4C5F-4512-BA5B-DAA753C7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0333-C581-4BE3-B402-66810D80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70AC-9D57-4FFB-AEE6-5ACA9E3F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CE4C-AEB8-48C1-801D-DC360471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BC56-11C8-4F53-BB95-F43B6EDD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6058-E53B-4A8A-BB9D-A63E1469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6A37-DAB9-4A91-92A5-40630689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6F09-A41F-4A83-96ED-BA55189A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208-D4E7-4ED3-B6E7-0C41BF15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9C73-8467-498C-A240-ABF5FC7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32B1-A751-4C11-96F4-000C71DC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0E4C-5606-4E33-B365-C7C12A59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BF99-EDA1-4439-A734-D7AFE8FA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70FA-4C6A-4DD8-AC02-E26F4512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CF20-6B54-4AE6-9E32-C0F668D4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CBE7-3F38-49AC-946E-8D6662D5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39553-7282-4E91-8616-26FA14D5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C7D2-B75F-4000-AB26-D3992406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2393-B99D-4E51-A994-6E32C21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4A52-C097-4742-8E69-6155FB5E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8CC6-4C16-419A-81B3-4C805C6B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F5A1-D9F9-4501-A71C-CCAD9D4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079A-9A9E-4FB9-9D30-00D3D61C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D92FC-2BC9-4FC1-A20F-683E57C9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1D21-DADE-41A2-910A-A0B5B3A4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06B2-3597-4418-B90C-CBCA41BD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5954-8A13-4C3C-8F9F-93B1F781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28FD9-90A1-45B6-A754-CA7C67EC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AF65-1C3C-4690-95E5-A0B51346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9D764-44F2-40C5-B527-73968228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C67-FB2A-45F7-8679-24B0972F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5326-6F70-455A-8CA2-3872DF80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66C6-ACEC-49F6-BAE7-DFA035A5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3F7B-4D80-4419-9C2A-F4005FA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ACF3-00A1-47BC-B6DB-B874CDDE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2E4F-B678-40D0-A48F-9A02D1CD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0257-3464-434A-8CF2-E1558BEF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A9AB0-BB05-4A45-8202-3F7D5845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1D78-6BDB-405B-A3DF-9902C8C1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6650-690F-4E45-93B6-653274D7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79C7B-B3E7-4DFE-9745-CA7E0CDC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292-A3D0-4C59-88EE-49384605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3843B-57F8-4BE2-8549-6B498F7F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9751D-F4C2-48B1-9FCD-57B39536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0A52C-EFF4-4DD6-93AD-09BE9CFC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A8AEB-1982-4BCE-9A10-A13971A9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4A6AB-AA08-46E6-953A-4B3C009A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24B1-F1D0-445A-A4A8-3EF95E1B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0CD2-37B9-4087-8F26-A967B344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2AEA-8553-4675-A13D-7D7A5FE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AA3FA-35A2-40A1-B6A5-05022AE4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74B68-0415-4EE3-8236-04D3CCA4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4A5-5BC0-4A91-814B-EDFD7F4C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E277-7AFC-40A8-BE10-710FC1FA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AA7-7D82-4682-8F89-5001EABA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78B-62AB-4C05-B4A7-0479EC6A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F74-D82A-4AFE-ACD9-E065398D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9A75-AE3F-49CD-8F59-FF7EF644A4D8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77E1-6199-4199-8ADC-70E1DBC7B814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6B78-50D2-4A52-8839-75051D3F6F35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1831-1026-4445-8C58-3CD74D636BAF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D757-ACEA-4F65-9676-72ED53E3378A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5520"/>
            <a:ext cx="1828800" cy="38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Briton</a:t>
            </a:r>
            <a:r>
              <a:rPr b="0" lang="en-US" sz="1400" spc="-1" strike="noStrike">
                <a:solidFill>
                  <a:srgbClr val="5cadc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Hadden</a:t>
            </a:r>
            <a:br>
              <a:rPr sz="1800"/>
            </a:br>
            <a:endParaRPr b="1" lang="en-US" sz="14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2341440" y="-42840"/>
            <a:ext cx="4834080" cy="576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Go to fullsize image"/>
          <p:cNvPicPr/>
          <p:nvPr/>
        </p:nvPicPr>
        <p:blipFill>
          <a:blip r:embed="rId2"/>
          <a:stretch/>
        </p:blipFill>
        <p:spPr>
          <a:xfrm>
            <a:off x="646200" y="3498840"/>
            <a:ext cx="1670040" cy="4761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1"/>
          <p:cNvSpPr/>
          <p:nvPr/>
        </p:nvSpPr>
        <p:spPr>
          <a:xfrm>
            <a:off x="7162920" y="5958720"/>
            <a:ext cx="128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enry L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tretch/>
        </p:blipFill>
        <p:spPr>
          <a:xfrm>
            <a:off x="6870600" y="3408480"/>
            <a:ext cx="1755720" cy="2504880"/>
          </a:xfrm>
          <a:prstGeom prst="rect">
            <a:avLst/>
          </a:prstGeom>
          <a:ln w="0">
            <a:noFill/>
          </a:ln>
        </p:spPr>
      </p:pic>
      <p:pic>
        <p:nvPicPr>
          <p:cNvPr id="225" name="Text Box 14" descr=""/>
          <p:cNvPicPr/>
          <p:nvPr/>
        </p:nvPicPr>
        <p:blipFill>
          <a:blip r:embed="rId4"/>
          <a:stretch/>
        </p:blipFill>
        <p:spPr>
          <a:xfrm>
            <a:off x="268200" y="5237280"/>
            <a:ext cx="7120080" cy="218736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11" descr=""/>
          <p:cNvPicPr/>
          <p:nvPr/>
        </p:nvPicPr>
        <p:blipFill>
          <a:blip r:embed="rId5"/>
          <a:stretch/>
        </p:blipFill>
        <p:spPr>
          <a:xfrm>
            <a:off x="1432080" y="6486480"/>
            <a:ext cx="6243480" cy="37800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12" descr=""/>
          <p:cNvPicPr/>
          <p:nvPr/>
        </p:nvPicPr>
        <p:blipFill>
          <a:blip r:embed="rId6"/>
          <a:stretch/>
        </p:blipFill>
        <p:spPr>
          <a:xfrm>
            <a:off x="6851520" y="6016680"/>
            <a:ext cx="2298960" cy="347760"/>
          </a:xfrm>
          <a:prstGeom prst="rect">
            <a:avLst/>
          </a:prstGeom>
          <a:ln w="0">
            <a:noFill/>
          </a:ln>
        </p:spPr>
      </p:pic>
      <p:sp>
        <p:nvSpPr>
          <p:cNvPr id="228" name="Round Diagonal Corner Rectangle 17"/>
          <p:cNvSpPr/>
          <p:nvPr/>
        </p:nvSpPr>
        <p:spPr>
          <a:xfrm>
            <a:off x="6553080" y="609480"/>
            <a:ext cx="2133720" cy="2590920"/>
          </a:xfrm>
          <a:prstGeom prst="pi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400800" y="685440"/>
            <a:ext cx="2362320" cy="2057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Boopee"/>
              </a:rPr>
              <a:t>Time began as a simple black and white magazine, and it now has become full of color. Secondly, it went from just a magazine to becoming broadcasted over the radio and also on tv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Snip Diagonal Corner Rectangle 19"/>
          <p:cNvSpPr/>
          <p:nvPr/>
        </p:nvSpPr>
        <p:spPr>
          <a:xfrm>
            <a:off x="380880" y="533520"/>
            <a:ext cx="2286000" cy="2895480"/>
          </a:xfrm>
          <a:prstGeom prst="pi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Text Box 13" descr=""/>
          <p:cNvPicPr/>
          <p:nvPr/>
        </p:nvPicPr>
        <p:blipFill>
          <a:blip r:embed="rId7"/>
          <a:stretch/>
        </p:blipFill>
        <p:spPr>
          <a:xfrm>
            <a:off x="401760" y="652320"/>
            <a:ext cx="2354040" cy="259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0:40:59Z</dcterms:created>
  <dc:creator>Coreil</dc:creator>
  <dc:description/>
  <dc:language>en-US</dc:language>
  <cp:lastModifiedBy>laurac</cp:lastModifiedBy>
  <dcterms:modified xsi:type="dcterms:W3CDTF">2009-02-09T19:17:32Z</dcterms:modified>
  <cp:revision>10</cp:revision>
  <dc:subject/>
  <dc:title>Slide 1</dc:title>
</cp:coreProperties>
</file>