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181A-FC77-468D-9500-0ACFC1449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614E-CF33-4B7B-B9CA-6746E3BFA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8937-D3FA-41FD-AF1E-714AD96EF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550B-E99B-4BB8-9DF3-2CDC1119C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0A171-86FB-4793-8B93-30F9F5A7B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FC0F7-1612-4ABD-8116-9C8000183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585D8-46AB-4271-A42F-EAF3884D5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F49E1-A914-4E80-823E-68DEFFA50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E1DEB-6950-4904-9EA7-4BB5C2FC8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6EE14-0767-4729-BD48-04F4D63A0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6EF71-3299-45A5-84D1-8645193A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9A6E-1BE5-44E8-A777-9A0909C05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93560-7F7E-4A6C-91BA-B1DF8875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426EE-61B3-4303-9A39-2511E7E8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6CB03-0F40-4CBD-BF0A-F71E6DAB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B30BF-D733-4F46-8D25-235EDDB2A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C5B04-D5DB-4F9E-8FF7-85DC9B9E3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2BB65-929E-41AE-B0FF-B41C2F603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117A2-465B-46E5-B0E3-73161434C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147FA-1F16-4351-82B2-749E0E949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8B960-3279-4D30-9F99-E7E0E982A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C2992-A002-4A6A-A742-9D87BD48F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AE68-ADD6-4F77-BA9D-BC63D7D74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47B67-C2CC-4C66-AC82-F0638C2A4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FB2C5-1BA6-4B37-84DA-3A4D88AB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AA9F2-A273-4299-A9BE-5CD5AC5A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953C9-5171-440B-A3FD-7C5E41F3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1D018-5F7B-4B1A-A897-EC5D25053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0C6C7-74FD-4073-ACE5-0525DD502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7872D-D5D3-458E-8730-21465BBE9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6E448-28AA-4A7B-869C-21A5998E4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F7AB1-DC24-4FAF-A7A3-AFD246ADB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AB89F-B628-4635-8416-A8A0CBBC1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5BA2-8854-4DD9-87A9-E29132424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B5173-6592-475D-B8B5-3D737CDF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E8F0F-C507-4F92-8F58-99F12951B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A7364-BA6F-4B4A-81EC-24B8678E2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1A14E-A694-4470-9232-6EF21DBB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A2E73-BCD4-46D3-8D49-D77BEE83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BD580-BA62-4FF7-9A90-D467BBD3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6FDE9-0A62-4514-932E-14AAC7DA0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4754B-DDD7-4D82-B654-937286AE5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EE76D-246A-4FEC-977A-031878A10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3F4B8-A926-4A32-96CE-51DF56207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8F41-FFDC-436B-9369-832A61AC9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6EC1D-10FE-4962-853B-827E890E1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5D931-724D-4DB9-8EC3-45C4F7215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B14CF-EE8C-47AC-9F04-10D606367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1EB17-501B-4222-A8C0-2DC891821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57E82-87AB-4BA3-8E5B-4DEFC3D8E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064D7-E2BA-4845-B4D1-043E55A6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F5DA0-8C9F-47D4-9F8B-44F68197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F3C4E-7AE1-451E-AB2C-4F215365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C65C3-1F17-4416-9437-51BC58912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86AFF-371D-47ED-A435-E8DFF7180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BCB4-6F92-4D99-9894-BDAE84E38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3FB24-7B5D-4AB7-AE17-0DD0064E1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EECE-1E53-40C9-9833-FC794D00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49C5-772D-49CB-887E-2360DF4A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FEF9-CA6A-4C25-9DEA-912F7DF7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adc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e1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e100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242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aa3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74A3E-2CDF-4945-913F-0A7B9D8F27D0}" type="slidenum">
              <a:rPr b="0" lang="en-US" sz="1000" spc="-1" strike="noStrike">
                <a:solidFill>
                  <a:srgbClr val="aaa39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adc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e1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e100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242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aa3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F99C0-7086-4254-B948-82219D578E2F}" type="slidenum">
              <a:rPr b="0" lang="en-US" sz="1000" spc="-1" strike="noStrike">
                <a:solidFill>
                  <a:srgbClr val="aaa39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adc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e1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e100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242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aa3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831CE-3065-4A92-9156-F29D9B7FDB80}" type="slidenum">
              <a:rPr b="0" lang="en-US" sz="1000" spc="-1" strike="noStrike">
                <a:solidFill>
                  <a:srgbClr val="aaa39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adc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e1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e100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242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aa3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156AC-15AF-4924-93F6-0A0511639A70}" type="slidenum">
              <a:rPr b="0" lang="en-US" sz="1000" spc="-1" strike="noStrike">
                <a:solidFill>
                  <a:srgbClr val="aaa39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cadc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cadc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e1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e100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242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aa3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8F530-E0FC-4740-9C09-A3B49436ABC9}" type="slidenum">
              <a:rPr b="0" lang="en-US" sz="1000" spc="-1" strike="noStrike">
                <a:solidFill>
                  <a:srgbClr val="aaa39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91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6095520"/>
            <a:ext cx="1828800" cy="381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Briton</a:t>
            </a:r>
            <a:r>
              <a:rPr b="0" lang="en-US" sz="1400" spc="-1" strike="noStrike">
                <a:solidFill>
                  <a:srgbClr val="5cadc6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Hadden</a:t>
            </a:r>
            <a:br>
              <a:rPr sz="1800"/>
            </a:br>
            <a:endParaRPr b="1" lang="en-US" sz="1400" spc="-1" strike="noStrike">
              <a:solidFill>
                <a:srgbClr val="5cadc6"/>
              </a:solidFill>
              <a:latin typeface="Verdana"/>
            </a:endParaRPr>
          </a:p>
        </p:txBody>
      </p:sp>
      <p:pic>
        <p:nvPicPr>
          <p:cNvPr id="221" name="Picture 8" descr=""/>
          <p:cNvPicPr/>
          <p:nvPr/>
        </p:nvPicPr>
        <p:blipFill>
          <a:blip r:embed="rId1"/>
          <a:stretch/>
        </p:blipFill>
        <p:spPr>
          <a:xfrm>
            <a:off x="2341440" y="-42840"/>
            <a:ext cx="4834080" cy="57672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0" descr="Go to fullsize image"/>
          <p:cNvPicPr/>
          <p:nvPr/>
        </p:nvPicPr>
        <p:blipFill>
          <a:blip r:embed="rId2"/>
          <a:stretch/>
        </p:blipFill>
        <p:spPr>
          <a:xfrm>
            <a:off x="646200" y="3498840"/>
            <a:ext cx="1670040" cy="476100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11"/>
          <p:cNvSpPr/>
          <p:nvPr/>
        </p:nvSpPr>
        <p:spPr>
          <a:xfrm>
            <a:off x="7162920" y="5958720"/>
            <a:ext cx="128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enry Lu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2" descr=""/>
          <p:cNvPicPr/>
          <p:nvPr/>
        </p:nvPicPr>
        <p:blipFill>
          <a:blip r:embed="rId3"/>
          <a:stretch/>
        </p:blipFill>
        <p:spPr>
          <a:xfrm>
            <a:off x="6870600" y="3408480"/>
            <a:ext cx="1755720" cy="2504880"/>
          </a:xfrm>
          <a:prstGeom prst="rect">
            <a:avLst/>
          </a:prstGeom>
          <a:ln w="0">
            <a:noFill/>
          </a:ln>
        </p:spPr>
      </p:pic>
      <p:pic>
        <p:nvPicPr>
          <p:cNvPr id="225" name="Text Box 14" descr=""/>
          <p:cNvPicPr/>
          <p:nvPr/>
        </p:nvPicPr>
        <p:blipFill>
          <a:blip r:embed="rId4"/>
          <a:stretch/>
        </p:blipFill>
        <p:spPr>
          <a:xfrm>
            <a:off x="268200" y="5237280"/>
            <a:ext cx="7120080" cy="2187360"/>
          </a:xfrm>
          <a:prstGeom prst="rect">
            <a:avLst/>
          </a:prstGeom>
          <a:ln w="0">
            <a:noFill/>
          </a:ln>
        </p:spPr>
      </p:pic>
      <p:pic>
        <p:nvPicPr>
          <p:cNvPr id="226" name="Rectangle 11" descr=""/>
          <p:cNvPicPr/>
          <p:nvPr/>
        </p:nvPicPr>
        <p:blipFill>
          <a:blip r:embed="rId5"/>
          <a:stretch/>
        </p:blipFill>
        <p:spPr>
          <a:xfrm>
            <a:off x="1432080" y="6486480"/>
            <a:ext cx="6243480" cy="378000"/>
          </a:xfrm>
          <a:prstGeom prst="rect">
            <a:avLst/>
          </a:prstGeom>
          <a:ln w="0">
            <a:noFill/>
          </a:ln>
        </p:spPr>
      </p:pic>
      <p:pic>
        <p:nvPicPr>
          <p:cNvPr id="227" name="Rectangle 12" descr=""/>
          <p:cNvPicPr/>
          <p:nvPr/>
        </p:nvPicPr>
        <p:blipFill>
          <a:blip r:embed="rId6"/>
          <a:stretch/>
        </p:blipFill>
        <p:spPr>
          <a:xfrm>
            <a:off x="6851520" y="6016680"/>
            <a:ext cx="2298960" cy="347760"/>
          </a:xfrm>
          <a:prstGeom prst="rect">
            <a:avLst/>
          </a:prstGeom>
          <a:ln w="0">
            <a:noFill/>
          </a:ln>
        </p:spPr>
      </p:pic>
      <p:sp>
        <p:nvSpPr>
          <p:cNvPr id="228" name="Round Diagonal Corner Rectangle 17"/>
          <p:cNvSpPr/>
          <p:nvPr/>
        </p:nvSpPr>
        <p:spPr>
          <a:xfrm>
            <a:off x="6553080" y="609480"/>
            <a:ext cx="2133720" cy="2590920"/>
          </a:xfrm>
          <a:prstGeom prst="pie">
            <a:avLst/>
          </a:prstGeom>
          <a:solidFill>
            <a:srgbClr val="3891a7"/>
          </a:solidFill>
          <a:ln w="424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400800" y="685440"/>
            <a:ext cx="2362320" cy="2057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Boopee"/>
              </a:rPr>
              <a:t>Time began as a simple black and white magazine, and it now has become full of color. Secondly, it went from just a magazine to becoming broadcasted over the radio and also on tv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Snip Diagonal Corner Rectangle 19"/>
          <p:cNvSpPr/>
          <p:nvPr/>
        </p:nvSpPr>
        <p:spPr>
          <a:xfrm>
            <a:off x="380880" y="533520"/>
            <a:ext cx="2286000" cy="2895480"/>
          </a:xfrm>
          <a:prstGeom prst="pie">
            <a:avLst/>
          </a:prstGeom>
          <a:solidFill>
            <a:srgbClr val="3891a7"/>
          </a:solidFill>
          <a:ln w="4248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Text Box 13" descr=""/>
          <p:cNvPicPr/>
          <p:nvPr/>
        </p:nvPicPr>
        <p:blipFill>
          <a:blip r:embed="rId7"/>
          <a:stretch/>
        </p:blipFill>
        <p:spPr>
          <a:xfrm>
            <a:off x="401760" y="652320"/>
            <a:ext cx="2354040" cy="2597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00:40:59Z</dcterms:created>
  <dc:creator>Coreil</dc:creator>
  <dc:description/>
  <dc:language>en-US</dc:language>
  <cp:lastModifiedBy>laurac</cp:lastModifiedBy>
  <dcterms:modified xsi:type="dcterms:W3CDTF">2009-02-09T19:17:32Z</dcterms:modified>
  <cp:revision>10</cp:revision>
  <dc:subject/>
  <dc:title>Slide 1</dc:title>
</cp:coreProperties>
</file>