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5207-CAC8-4045-91EA-98CF69C8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FD7-1CEC-4D56-BCA0-3C10C17D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B56-A001-414B-BE15-E2A6B575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691-7E46-4EE0-9FAE-B060F76B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7F4C-F373-479E-BE54-BE05D6A3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EAD-247B-4892-BDDD-28288AC8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89B-7381-458D-BB2F-B472E72F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321-7A70-458E-B12D-6408B83D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C66-8B06-4DC3-8833-8C16612D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575-F00A-474A-81A1-F5FCD711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DB2B-87B0-432F-901C-ADF84D33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269-DB1D-4EED-85D4-D1979BCD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C07D-0D46-42EF-866A-C6A32CA22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7772400" y="1676520"/>
            <a:ext cx="1262160" cy="2066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 rot="412200">
            <a:off x="7467120" y="5714640"/>
            <a:ext cx="1595520" cy="84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981080" y="2738520"/>
            <a:ext cx="5029200" cy="411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4"/>
          <a:stretch/>
        </p:blipFill>
        <p:spPr>
          <a:xfrm>
            <a:off x="5486400" y="54100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"/>
          <p:cNvPicPr/>
          <p:nvPr/>
        </p:nvPicPr>
        <p:blipFill>
          <a:blip r:embed="rId5"/>
          <a:stretch/>
        </p:blipFill>
        <p:spPr>
          <a:xfrm>
            <a:off x="7772400" y="3809880"/>
            <a:ext cx="1316160" cy="1690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6"/>
          <a:stretch/>
        </p:blipFill>
        <p:spPr>
          <a:xfrm>
            <a:off x="5791320" y="3124080"/>
            <a:ext cx="1699920" cy="2057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7"/>
          <p:cNvSpPr/>
          <p:nvPr/>
        </p:nvSpPr>
        <p:spPr>
          <a:xfrm>
            <a:off x="304920" y="1600200"/>
            <a:ext cx="23619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he Eskimo Pie started in 1921. It was invented by Christian Kent Nelson. He was a high school teacher. When he saw a boy deciding between ice cream and candy one day, he came up with the idea to combine them. It was originally called the I-Scream-Bar. It was renamed when he partnered up with Russel C. Stover. In its first year, over 1 million Eskimo Pie’s were sold. Today, Eskimo Pie’s are delighting people around the wor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"/>
          <p:cNvPicPr/>
          <p:nvPr/>
        </p:nvPicPr>
        <p:blipFill>
          <a:blip r:embed="rId7"/>
          <a:stretch/>
        </p:blipFill>
        <p:spPr>
          <a:xfrm>
            <a:off x="228600" y="6324480"/>
            <a:ext cx="685800" cy="319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20"/>
          <p:cNvSpPr txBox="1"/>
          <p:nvPr/>
        </p:nvSpPr>
        <p:spPr>
          <a:xfrm>
            <a:off x="762120" y="304920"/>
            <a:ext cx="7543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79ff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 WONDERLAND IN EVERY BI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779ff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WordArt 26"/>
          <p:cNvSpPr txBox="1"/>
          <p:nvPr/>
        </p:nvSpPr>
        <p:spPr>
          <a:xfrm>
            <a:off x="3581280" y="1447920"/>
            <a:ext cx="3962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*Vanilla with Nestle Crunch Coating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*Vanilla with Dark Chocolate Coating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*Vanilla and Chocolate snack pack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*Nestle Crunch Crisp and Nestle *Butterfinger Crisp snack pack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1" name="WordArt 27"/>
          <p:cNvSpPr txBox="1"/>
          <p:nvPr/>
        </p:nvSpPr>
        <p:spPr>
          <a:xfrm rot="21090600">
            <a:off x="2895120" y="1676160"/>
            <a:ext cx="14479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591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lavor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591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23:45:18Z</dcterms:created>
  <dc:creator>Lacey Guillory</dc:creator>
  <dc:description/>
  <dc:language>en-US</dc:language>
  <cp:lastModifiedBy>laceyg</cp:lastModifiedBy>
  <dcterms:modified xsi:type="dcterms:W3CDTF">2009-02-12T15:46:19Z</dcterms:modified>
  <cp:revision>6</cp:revision>
  <dc:subject/>
  <dc:title>Slide 1</dc:title>
</cp:coreProperties>
</file>