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3F49-7D1E-41FC-A33A-9C62CEE3E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DF79-24F9-4F15-B0F6-DBD6D3CCC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6C46-0879-44B7-B548-171BE6CB6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6C96-954C-4191-9E87-B84EC7871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6160-2B9E-4896-B097-051C25613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B123-D811-4026-AD15-E5F081760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3F21-84B7-4596-B526-853BB0392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D442-45E7-4CB1-90DF-4E8BE418A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4920-A13B-405F-89F8-840520448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08BD-981D-474E-AFCC-E77DF412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F357-0795-4FF2-814C-01745A44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2D68-7523-48FC-BE3D-4D552F14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DB13E-694D-4D25-AAF8-3A52A9A924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7772400" y="1676520"/>
            <a:ext cx="1262160" cy="20667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2"/>
          <a:stretch/>
        </p:blipFill>
        <p:spPr>
          <a:xfrm rot="412200">
            <a:off x="7467120" y="5714640"/>
            <a:ext cx="1595520" cy="846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4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1981080" y="2738520"/>
            <a:ext cx="5029200" cy="4119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"/>
          <p:cNvPicPr/>
          <p:nvPr/>
        </p:nvPicPr>
        <p:blipFill>
          <a:blip r:embed="rId4"/>
          <a:stretch/>
        </p:blipFill>
        <p:spPr>
          <a:xfrm>
            <a:off x="5486400" y="541008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5" descr=""/>
          <p:cNvPicPr/>
          <p:nvPr/>
        </p:nvPicPr>
        <p:blipFill>
          <a:blip r:embed="rId5"/>
          <a:stretch/>
        </p:blipFill>
        <p:spPr>
          <a:xfrm>
            <a:off x="7772400" y="3809880"/>
            <a:ext cx="1316160" cy="1690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"/>
          <p:cNvPicPr/>
          <p:nvPr/>
        </p:nvPicPr>
        <p:blipFill>
          <a:blip r:embed="rId6"/>
          <a:stretch/>
        </p:blipFill>
        <p:spPr>
          <a:xfrm>
            <a:off x="5791320" y="3124080"/>
            <a:ext cx="1699920" cy="20574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7"/>
          <p:cNvSpPr/>
          <p:nvPr/>
        </p:nvSpPr>
        <p:spPr>
          <a:xfrm>
            <a:off x="304920" y="1600200"/>
            <a:ext cx="236196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he Eskimo Pie started in 1921. It was invented by Christian Kent Nelson. He was a high school teacher. When he saw a boy deciding between ice cream and candy one day, he came up with the idea to combine them. It was originally called the I-Scream-Bar. It was renamed when he partnered up with Russel C. Stover. In its first year, over 1 million Eskimo Pie’s were sold. Today, Eskimo Pie’s are delighting people around the worl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3" descr=""/>
          <p:cNvPicPr/>
          <p:nvPr/>
        </p:nvPicPr>
        <p:blipFill>
          <a:blip r:embed="rId7"/>
          <a:stretch/>
        </p:blipFill>
        <p:spPr>
          <a:xfrm>
            <a:off x="228600" y="6324480"/>
            <a:ext cx="685800" cy="319320"/>
          </a:xfrm>
          <a:prstGeom prst="rect">
            <a:avLst/>
          </a:prstGeom>
          <a:ln w="0">
            <a:noFill/>
          </a:ln>
        </p:spPr>
      </p:pic>
      <p:sp>
        <p:nvSpPr>
          <p:cNvPr id="49" name="WordArt 20"/>
          <p:cNvSpPr txBox="1"/>
          <p:nvPr/>
        </p:nvSpPr>
        <p:spPr>
          <a:xfrm>
            <a:off x="762120" y="304920"/>
            <a:ext cx="75438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9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779ff9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 WONDERLAND IN EVERY BIT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100000">
                    <a:srgbClr val="779ff9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" name="WordArt 26"/>
          <p:cNvSpPr txBox="1"/>
          <p:nvPr/>
        </p:nvSpPr>
        <p:spPr>
          <a:xfrm>
            <a:off x="3581280" y="1447920"/>
            <a:ext cx="39625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*Vanilla with Nestle Crunch Coating</a:t>
            </a:r>
            <a:endParaRPr b="0" lang="en-US" sz="16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*Vanilla with Dark Chocolate Coating</a:t>
            </a:r>
            <a:endParaRPr b="0" lang="en-US" sz="16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*Vanilla and Chocolate snack pack</a:t>
            </a:r>
            <a:endParaRPr b="0" lang="en-US" sz="16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*Nestle Crunch Crisp and Nestle *Butterfinger Crisp snack pack</a:t>
            </a:r>
            <a:endParaRPr b="0" lang="en-US" sz="16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51" name="WordArt 27"/>
          <p:cNvSpPr txBox="1"/>
          <p:nvPr/>
        </p:nvSpPr>
        <p:spPr>
          <a:xfrm rot="21090600">
            <a:off x="2895120" y="1676160"/>
            <a:ext cx="144792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ff"/>
                    </a:gs>
                  </a:gsLst>
                  <a:lin ang="591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Flavor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591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8T23:45:18Z</dcterms:created>
  <dc:creator>Lacey Guillory</dc:creator>
  <dc:description/>
  <dc:language>en-US</dc:language>
  <cp:lastModifiedBy>laceyg</cp:lastModifiedBy>
  <dcterms:modified xsi:type="dcterms:W3CDTF">2009-02-12T15:46:19Z</dcterms:modified>
  <cp:revision>6</cp:revision>
  <dc:subject/>
  <dc:title>Slide 1</dc:title>
</cp:coreProperties>
</file>