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996-663E-41A0-B49A-FA85B8ED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C3EF-1E24-42D4-9AA9-000E3131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6E7-F091-4F84-B2A7-E75C742D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440-4B72-4E9D-A3ED-A3263557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2071-85CE-4080-95CD-CD330662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F722-F5C4-42D9-8F10-B2AB24A2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E0FA-592F-4714-8984-51634435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FCC0-C645-4C63-86E7-B56FCE47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CC57-E9AD-4953-ADA5-08C1557A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2D62-9326-4B59-BD09-318D25FD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6B86-F65F-4312-AF60-D10BD100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C50-76E4-4D2D-A5AE-122DA974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849D-B2D2-41FE-AAD4-DAFB10C3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4E97-D48A-4684-860D-8006174C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E516-7C50-4A09-B058-C787D5AF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E485-68AF-4D56-946E-C15F05E9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3272-279A-4CB3-B3E4-BEC797C4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483A0-C650-4647-9EDB-9318FE14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E14BE-D38C-4D61-AAA4-EA501CC2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B9901-403D-4704-9E04-99516049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11334-E5F6-4615-93F5-D80E91B3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A42C2-DB77-4DBE-8012-AD04AF57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8FD2-960A-4C54-81F1-E697C05F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E7024-17DF-4041-B591-B530E8C4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43A11-7D5F-41F0-8084-91BDF3EC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F7725-650F-41D2-B2B6-73704832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0E83E-CB5A-4C54-86A4-44E56B2D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90AA1-8EF0-4D0C-990D-58E387E2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18593-1108-41CD-8DDB-28990A51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3936D-AF9E-46BE-8B5E-C6B3544B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4E4FB-B158-49C8-AA09-0557399D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595E3-1DA4-4C5E-9D01-1096FF88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17103-A061-4D13-B6D3-6E619A6C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BDA-6EA9-4B24-A437-34F431D9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C026B-D32A-482E-9B52-6850D69C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15A57-B07A-4002-B953-16A56B54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6AB13-23B3-4279-A192-57245578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3D19D-A361-4901-8754-E32C0F57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DF0C3-1102-482E-BDD4-A342CA30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FCC5E-1CC0-4BA8-B450-E481926D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D4F48-23EC-4E68-AE60-1841E861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465B3-E3DB-49EF-83E0-188B0664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988FF-A7AA-458F-BF3C-ED50048E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6E80F-9AAE-4933-8ED6-082A5353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7A6-F9F8-48AC-8C56-B4939B3D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0F2F9-43B9-4C1D-B9F4-144614A7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6CCE5-E8D8-4EBD-AB05-8C6C5818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CA7DD-F4D3-46D6-9E51-075B29D4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94958-DAB8-4764-8736-F4A33866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4EB9F-2D06-41F1-A6CB-FB60AA91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848EF-38D7-493D-B859-718AD8EE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D7566-6E0C-4F2F-8704-4EBFEA98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98914-096C-4D25-9415-D88D6F85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78E0B-6652-410F-B0C1-48E7BA39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C6D22-0F01-4FA4-AE38-1BD904D0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4C04-38C6-4359-A74E-11E4338F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D88E8-FBB6-406F-BC83-98160E11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84E-3AA9-43C7-B250-CAF988E3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CB96-40E5-4C68-B973-1C2435FB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7B8-5BCC-4BE2-9426-264B8048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6C3F-F985-48F3-99FD-839247EBCF2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2775-4578-4E77-9646-EA44E0059D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89EA-726B-466D-8084-5183F8D3DD4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6780-30CA-42DF-B179-578E43581F2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5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8B4D-FB63-41E9-97EF-CA10C0AB43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343040" y="-36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Baby Ruth Candy 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2" descr="http://blogs.chron.com/sportsjustice/archives/Baby%20Ruth.jpg"/>
          <p:cNvPicPr/>
          <p:nvPr/>
        </p:nvPicPr>
        <p:blipFill>
          <a:blip r:embed="rId1"/>
          <a:stretch/>
        </p:blipFill>
        <p:spPr>
          <a:xfrm>
            <a:off x="4876920" y="762120"/>
            <a:ext cx="3279600" cy="9903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8"/>
          <p:cNvSpPr/>
          <p:nvPr/>
        </p:nvSpPr>
        <p:spPr>
          <a:xfrm>
            <a:off x="380880" y="152280"/>
            <a:ext cx="2971800" cy="37530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by Ruth Candy Bar was created by Otto Y. Schnering in 1920. The candy bar was first the Kandy Kate, a bar that had a pastry center topped with nuts and coated with chocolate. Schnering then changed it to peanuts covered with chocolate and nougat which is now called the Baby R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6629400" y="1981080"/>
            <a:ext cx="2286000" cy="1465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by Ruth Candy Bar is the “sweetest story ever told” and “the world’s most popular candy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380880" y="4114800"/>
            <a:ext cx="2133720" cy="25628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by Ruth, after seven decades of being owned by the  Curtis Candy Company was then purchased by Nabisco and now is currently owned by Nes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553080" y="5105520"/>
            <a:ext cx="2438640" cy="14655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Eat this tasty Product you might find yourself playing baseball just as good as Babe Ruth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3657600" y="1981080"/>
            <a:ext cx="2666880" cy="28371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tiss Candy Company chartered an airplane and dropped the Baby Ruth Candy Bar by parachutes to cities in more than forty states. The company also began a campaign that placed four colorful advertisements in national magaz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9" descr="http://www.scripophily.com/webcart/vigs/curtisscandycovig.jpg"/>
          <p:cNvPicPr/>
          <p:nvPr/>
        </p:nvPicPr>
        <p:blipFill>
          <a:blip r:embed="rId2"/>
          <a:stretch/>
        </p:blipFill>
        <p:spPr>
          <a:xfrm>
            <a:off x="3352680" y="5257800"/>
            <a:ext cx="2743200" cy="1166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http://tbn2.google.com/images?q=tbn:7Ce28GdxsOiMTM:http://pgteenspace.files.wordpress.com/2008/06/nestle-logo.jpg"/>
          <p:cNvPicPr/>
          <p:nvPr/>
        </p:nvPicPr>
        <p:blipFill>
          <a:blip r:embed="rId3"/>
          <a:stretch/>
        </p:blipFill>
        <p:spPr>
          <a:xfrm>
            <a:off x="7010280" y="3733920"/>
            <a:ext cx="15084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9:10:42Z</dcterms:created>
  <dc:creator>jacobmf</dc:creator>
  <dc:description/>
  <dc:language>en-US</dc:language>
  <cp:lastModifiedBy>jacobmf</cp:lastModifiedBy>
  <dcterms:modified xsi:type="dcterms:W3CDTF">2009-02-12T18:56:54Z</dcterms:modified>
  <cp:revision>14</cp:revision>
  <dc:subject/>
  <dc:title>Slide 1</dc:title>
</cp:coreProperties>
</file>