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F6B-EA9D-45BE-ABB3-F260115D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E99-474B-4008-8500-F8A213A9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677-DA43-47F8-8839-B9DFDB6F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0EB-88DE-4CFC-9513-ED34B43B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C7D3-7896-443F-BC8A-2854D400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972B-7763-45E8-BB40-17D0B0D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515-1C86-4A62-8743-B61A54C2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15C-683D-4730-A1A6-7F7D62C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4151-9412-4E93-B507-34C04E72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C95-E7F9-497C-8931-4B4BC89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3A4C-1E12-4F82-AED3-A1A5620E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40D-24CA-4CB2-8000-DA7161B7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17C3-F43B-40A3-9C07-7B771C6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2DDC-C59A-4732-8F2D-49FAB043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1B0E-4736-4D5A-9DDD-A5E0DE2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A410-92D6-4D73-8BA3-2D6FC16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E207-1BFB-488B-947F-A0AA9819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BDE7-BD0B-4048-B647-6E16BD5D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4A450-B811-44D4-9820-9C707971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33A7C-5EF9-421D-B4F6-2ACC21DB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430B-8E7D-47B8-9341-BBB8113D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469C-219A-4CB0-A411-6D826BD6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32B4-6106-4A53-9A89-C41A4210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C214-BCF5-4EFE-B142-5986143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1570B-3FA6-4278-99EC-FD847DEF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BB4B-C2D3-44AD-A78E-D61F5EC6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4F529-2814-4C19-BB5D-0004F81F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9296-EB9B-458D-9D25-6FFEBB6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7802E-AAA6-48A1-91C3-E7722679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66E8-3A82-420B-B0A6-EFF1B47D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D2A7-06EC-432D-A18C-FBF2F969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F3D7-F97A-4220-8DA1-A73324B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1781-503B-410C-84C4-6AF22477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DB-F9A3-438C-AA72-AFC7EE3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E3FB-332E-42DB-94C0-74BF6D6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61028-0AFC-4D59-981F-6654F313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3E8E-2288-4D83-97E6-50ACBA9A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0552-6C07-4959-A172-7ABE635D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CAA8D-800D-44FA-A176-22D1C66C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6BA3E-5E34-4FD1-B7D6-6D73385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A6B5-FC02-4579-A8E0-C8818885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E1CC-3255-48B3-AC97-A2A80645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5385-F4A2-4964-B044-7ADDA903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2B81-CDD8-4BF2-9928-D2E5BE1D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CC8-1DDC-4FA5-822B-C458301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4C02-AA14-4FDB-823B-EE2A0029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2764A-9B82-4028-A96E-9520E2E5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CE90D-009E-463A-B00A-8CE4F21C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8B1B-6B80-4F7F-A8CB-230C834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7EB2-DEFF-424E-92CF-528DC5D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072C8-548D-41E6-9FE1-DBE6E03A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276F-B748-4F42-B4AF-0CF1AC0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4B4D9-8F97-445C-9DE5-BB95EB0D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5D65-988D-49E5-9861-B0BD9D9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AE19-8982-41E8-AACB-5D38E0DC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130-78AE-4A88-AC34-852C0221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2EEC-20EE-41CB-B649-AE979302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C9A-C4B3-47BB-A1B5-5203474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23A-9392-4105-8716-9AFA325D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D86-207E-4E64-A61D-9B65A36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3A10-DFB5-42FC-AC91-C03486BA36C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CF9C-107F-45AD-A935-A7677CD0C5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9FEC-F0F6-47ED-8FA4-64FDE4D26C8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901E-34CA-4ACC-B5E7-8618CF930D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3527-D706-4B5E-BAB3-E706D821F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34304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by Ruth Candy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http://blogs.chron.com/sportsjustice/archives/Baby%20Ruth.jpg"/>
          <p:cNvPicPr/>
          <p:nvPr/>
        </p:nvPicPr>
        <p:blipFill>
          <a:blip r:embed="rId1"/>
          <a:stretch/>
        </p:blipFill>
        <p:spPr>
          <a:xfrm>
            <a:off x="4876920" y="762120"/>
            <a:ext cx="3279600" cy="99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80880" y="152280"/>
            <a:ext cx="2971800" cy="375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by Ruth Candy Bar was created by Otto Y. Schnering in 1920. The candy bar was first the Kandy Kate, a bar that had a pastry center topped with nuts and coated with chocolate. Schnering then changed it to peanuts covered with chocolate and nougat which is now called the Baby 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629400" y="1981080"/>
            <a:ext cx="2286000" cy="1465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 Candy Bar is the “sweetest story ever told” and “the world’s most popular cand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80880" y="4114800"/>
            <a:ext cx="2133720" cy="256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, after seven decades of being owned by the  Curtis Candy Company was then purchased by Nabisco and now is currently owned by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3080" y="5105520"/>
            <a:ext cx="243864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Eat this tasty Product you might find yourself playing baseball just as good as Babe Rut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657600" y="1981080"/>
            <a:ext cx="2666880" cy="2837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tiss Candy Company chartered an airplane and dropped the Baby Ruth Candy Bar by parachutes to cities in more than forty states. The company also began a campaign that placed four colorful advertisements in national magaz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http://www.scripophily.com/webcart/vigs/curtisscandycovig.jpg"/>
          <p:cNvPicPr/>
          <p:nvPr/>
        </p:nvPicPr>
        <p:blipFill>
          <a:blip r:embed="rId2"/>
          <a:stretch/>
        </p:blipFill>
        <p:spPr>
          <a:xfrm>
            <a:off x="3352680" y="5257800"/>
            <a:ext cx="2743200" cy="1166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http://tbn2.google.com/images?q=tbn:7Ce28GdxsOiMTM:http://pgteenspace.files.wordpress.com/2008/06/nestle-log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50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10:42Z</dcterms:created>
  <dc:creator>jacobmf</dc:creator>
  <dc:description/>
  <dc:language>en-US</dc:language>
  <cp:lastModifiedBy>jacobmf</cp:lastModifiedBy>
  <dcterms:modified xsi:type="dcterms:W3CDTF">2009-02-12T18:56:54Z</dcterms:modified>
  <cp:revision>14</cp:revision>
  <dc:subject/>
  <dc:title>Slide 1</dc:title>
</cp:coreProperties>
</file>