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A693-AA75-4AC3-9344-9082AA25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CE1C-35C7-42E6-9CE9-B7CDC585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BF4-576E-4069-A23F-D9132D8C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AA7-61B8-43D0-987B-D6DDDEDD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AD8C-2E01-4C75-BEA6-A14347E1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17EB-97A0-4CEF-9DBE-4E811D57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B830-53F9-45D5-8213-6FCDA312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1E56-17D7-4A4F-88B2-B1EA284F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554E-9680-4B5F-B73F-3421FAC9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78D6-6BFA-49BA-B12E-9CE0227B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DF0F-B4B0-4F96-BDD6-3322BE05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5AB-B279-4A25-9DA8-87C4E163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D825-98B5-415A-9E2A-22AE77AF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69F9-524D-4CC8-8083-13A321FC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56A0-8FC5-4AB9-B42C-4CDD25A7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AEEF-A563-44BA-87C1-F1351034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61CF-515A-4D97-85D5-BCCBA7BA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3B5A3-55D6-4D98-9C22-D083F495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813B5-D2E7-4F10-952E-06FD4BF7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49673-2E06-487C-83D7-6A4FA5B1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FC717-D442-410B-8386-2408581D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7D878-E470-4588-B5BC-A8121488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AA3-84CA-4FBF-BEAA-5FA6BEAE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CD6AA-0D0D-4377-8F13-F8392FC2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1CD9B-D5BA-49BC-BF30-40CF918D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964B4-FF16-47B6-A1DC-3EE84FD6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87965-A621-43A9-BBAC-AAC32D79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18564-1405-4177-AE9E-0BD4F9B5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842FE-E017-4226-AAEC-234AD843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6F47F-C590-4EF0-8932-37880F92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206FC-3FF6-44A8-92C4-A8FC1E70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26BF0-28B6-427A-8BE0-508EE137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C28AA-6B5C-444D-82EF-FA294E83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7F0-5002-4F78-935A-167B66D2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D19DC-CD19-40A4-8DC7-609ECB10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AC286-68F7-4F68-8FC3-4E2F4AD7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DFB82-A8F2-4832-98EC-4C3F91A9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41E21-B832-4D37-990E-C5B6D48C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656A9-32D8-41DB-8B01-40AE7590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DABFC-B937-4D35-B9FC-52D3234D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9E710-D506-4363-B6A3-C1245001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70BEE-1045-427F-9752-2B9A10A0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DCDF9-DC69-4955-BFC9-5620282F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6B479-6D1E-4B52-877F-F8FDD277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9C5D-4108-4943-BB6A-551BF7B1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3539F-04DB-4801-A93E-16259C3B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8CCF8-A83C-4727-A54A-E86FD60C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04606-BDF6-469B-8FBF-2CFC0573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5FBE5-4C25-4965-87D8-6EFBADF6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C49DB-4EDC-4912-8D36-CA89CAEE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D64AF-451E-417A-B6E0-17648226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56635-4AEB-4B8E-BB95-FBFB248A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BEEC1-6766-46E0-88ED-36D29C6A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508AB-4451-433B-9A48-08C1B399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F9949-D0F7-41F0-B4F8-9A9B0DFE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ABC-2195-42AB-B8C0-175BBE6A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30E94-2DA3-4BD2-896C-87675706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4DA9-1686-44D7-B44F-74AAF826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830-64DE-41FD-B7EC-B76C061A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E0A-6198-4ED5-9191-FB6445CE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E9FC-1FCB-4AFD-80D9-51655ABD5EC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79A1-AB44-4A54-8C25-8BA4B11FC2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2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0556-6DA3-41FF-ADB5-7F936D941E3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CEF7-FA05-48DC-9387-DB246819D99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5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6C62-97C5-4C83-B8B8-5DC859BD79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343040" y="-36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Baby Ruth Candy 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2" descr="http://blogs.chron.com/sportsjustice/archives/Baby%20Ruth.jpg"/>
          <p:cNvPicPr/>
          <p:nvPr/>
        </p:nvPicPr>
        <p:blipFill>
          <a:blip r:embed="rId1"/>
          <a:stretch/>
        </p:blipFill>
        <p:spPr>
          <a:xfrm>
            <a:off x="4876920" y="762120"/>
            <a:ext cx="3279600" cy="9903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8"/>
          <p:cNvSpPr/>
          <p:nvPr/>
        </p:nvSpPr>
        <p:spPr>
          <a:xfrm>
            <a:off x="380880" y="152280"/>
            <a:ext cx="2971800" cy="37530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by Ruth Candy Bar was created by Otto Y. Schnering in 1920. The candy bar was first the Kandy Kate, a bar that had a pastry center topped with nuts and coated with chocolate. Schnering then changed it to peanuts covered with chocolate and nougat which is now called the Baby R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6629400" y="1981080"/>
            <a:ext cx="2286000" cy="1465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aby Ruth Candy Bar is the “sweetest story ever told” and “the world’s most popular candy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380880" y="4114800"/>
            <a:ext cx="2133720" cy="25628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aby Ruth, after seven decades of being owned by the  Curtis Candy Company was then purchased by Nabisco and now is currently owned by Nes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6553080" y="5105520"/>
            <a:ext cx="2438640" cy="14655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Eat this tasty Product you might find yourself playing baseball just as good as Babe Ruth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3657600" y="1981080"/>
            <a:ext cx="2666880" cy="28371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tiss Candy Company chartered an airplane and dropped the Baby Ruth Candy Bar by parachutes to cities in more than forty states. The company also began a campaign that placed four colorful advertisements in national magaz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9" descr="http://www.scripophily.com/webcart/vigs/curtisscandycovig.jpg"/>
          <p:cNvPicPr/>
          <p:nvPr/>
        </p:nvPicPr>
        <p:blipFill>
          <a:blip r:embed="rId2"/>
          <a:stretch/>
        </p:blipFill>
        <p:spPr>
          <a:xfrm>
            <a:off x="3352680" y="5257800"/>
            <a:ext cx="2743200" cy="1166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http://tbn2.google.com/images?q=tbn:7Ce28GdxsOiMTM:http://pgteenspace.files.wordpress.com/2008/06/nestle-logo.jpg"/>
          <p:cNvPicPr/>
          <p:nvPr/>
        </p:nvPicPr>
        <p:blipFill>
          <a:blip r:embed="rId3"/>
          <a:stretch/>
        </p:blipFill>
        <p:spPr>
          <a:xfrm>
            <a:off x="7010280" y="3733920"/>
            <a:ext cx="15084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9:10:42Z</dcterms:created>
  <dc:creator>jacobmf</dc:creator>
  <dc:description/>
  <dc:language>en-US</dc:language>
  <cp:lastModifiedBy>jacobmf</cp:lastModifiedBy>
  <dcterms:modified xsi:type="dcterms:W3CDTF">2009-02-12T18:56:54Z</dcterms:modified>
  <cp:revision>14</cp:revision>
  <dc:subject/>
  <dc:title>Slide 1</dc:title>
</cp:coreProperties>
</file>