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A101-D158-4D0F-A2E1-43D6A223B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3B44-5C9F-41BE-9A28-B19F2DECA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F568-070D-428E-99D7-7A3833B2D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4BCF-345E-4655-98E8-503FDA121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4DAA1-14E5-4FF8-9381-430EDEC12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F4B03-6FAF-4057-8F37-06F13CA49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60266-3BB0-49F7-A925-BFBA620AB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A008C-513D-458A-B3C8-9FA51EEF7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B8C0D-4BD4-407A-9DEF-394866CD9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EF06F-3B89-4845-8766-FC38A9436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5D82A-EE7A-40AD-833B-662F60403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C74E-AB2C-4617-99A4-49C8B8F7D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26580-05A9-4BA8-A372-C760D952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5167B-AF2E-4ACC-AB18-CF4F8B6F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1FA2F-18F9-4F40-A789-C788C1959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2175E-AFFF-4AC5-BD6C-085D3D4E0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DAC55-D678-48A4-867B-810448826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ED07F-33F8-498E-978C-CF0CD702B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AEE33-93A1-4F1D-90ED-0D25A422F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805E0-F04F-4E7A-BCE9-F931129C8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FCEFA-7765-4A35-872C-31979C8FF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5AC15-300A-4702-8E26-63A6A75D1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BE71-EEA6-47BA-B6F4-EBB8BF217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5EF29-88B6-4746-910C-798B2D018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F8AA6-BBB3-4EA8-B878-C094A13D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418A5-9653-4B66-A54E-3BE4AE29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2AF5F-B576-4F5D-8064-B9C940626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CA6CE-7618-4CE8-8796-D94F2FF76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87464-8134-4AB4-B243-1D0E67A24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70154-4591-485F-9893-788C1527B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36FBC-260B-421F-AE98-2268C438E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FB5F5-27E4-4E1E-BA19-7C69D03F9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32BE6-E8F7-41B0-AF5D-A55C029AA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1B8E-9323-4D3A-B8DE-6E754045B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1D32D-76BD-4C3E-93A9-1B6941DA7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C8BA9-BD25-41AA-8B72-31765A612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0C68B-1AC9-48D5-94AD-ADA75D5E3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EF0C2-5EAC-4DDF-871D-DEA3FDD8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B4C35-F81A-46B8-A865-99D052475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C070D-72DD-46E0-98A3-05F87C331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4D7B6-0480-40BC-AD13-DB7365C9D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8D550-CC92-4F50-8431-41ECCE5D2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A9500-55C8-41DF-8693-FB71EFC51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F9DD25-402B-402E-8EDB-E9856E9EF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2ED0-6C80-4B61-9DF9-2A4A0640D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A8F4EF-9640-40FD-8A2E-EDE629C45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BD282-86AC-4072-A2B9-ECFF9F471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B92020-756D-4C8D-9BAD-0DB513986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9335B-A0E1-4AAE-B31E-394151CA1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A9F226-3551-4C37-9B32-10DBCD41F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AA958-D3FE-4014-9E8A-84939D2F5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A2115-4E65-45B5-81A1-EDE54C3F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C1A99C-1068-4065-8DD0-E71A5FD08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F17B98-226C-45D5-9436-DD2535A75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33E836-0AC1-4DC7-A39E-7F3A52E51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F1BC-F6C3-46B2-B8D1-415728ED5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DCDDA-9343-407E-B26A-C55BAA809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7253-60C6-40B6-8D8F-27F06D08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29CC-EA2F-49F3-B6E3-AD69F147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5AA1-BE81-4355-9F24-F48E3DD0F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972F5-C394-4B05-94F1-C0444CA2B50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D0AD2-20B3-4058-AF14-9BB627E585A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2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3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6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E0B05-787C-466A-8ACC-2AD52C5655A8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F6AF7-9530-4FE8-9B0F-5068F618951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95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CF8C1-12DC-4723-8181-1B8F58FBC22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343040" y="-360"/>
            <a:ext cx="4267080" cy="7621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Baby Ruth Candy B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2" descr="http://blogs.chron.com/sportsjustice/archives/Baby%20Ruth.jpg"/>
          <p:cNvPicPr/>
          <p:nvPr/>
        </p:nvPicPr>
        <p:blipFill>
          <a:blip r:embed="rId1"/>
          <a:stretch/>
        </p:blipFill>
        <p:spPr>
          <a:xfrm>
            <a:off x="4876920" y="762120"/>
            <a:ext cx="3279600" cy="99036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8"/>
          <p:cNvSpPr/>
          <p:nvPr/>
        </p:nvSpPr>
        <p:spPr>
          <a:xfrm>
            <a:off x="380880" y="152280"/>
            <a:ext cx="2971800" cy="375300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aby Ruth Candy Bar was created by Otto Y. Schnering in 1920. The candy bar was first the Kandy Kate, a bar that had a pastry center topped with nuts and coated with chocolate. Schnering then changed it to peanuts covered with chocolate and nougat which is now called the Baby Ru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9"/>
          <p:cNvSpPr/>
          <p:nvPr/>
        </p:nvSpPr>
        <p:spPr>
          <a:xfrm>
            <a:off x="6629400" y="1981080"/>
            <a:ext cx="2286000" cy="146556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Baby Ruth Candy Bar is the “sweetest story ever told” and “the world’s most popular candy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0"/>
          <p:cNvSpPr/>
          <p:nvPr/>
        </p:nvSpPr>
        <p:spPr>
          <a:xfrm>
            <a:off x="380880" y="4114800"/>
            <a:ext cx="2133720" cy="256284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Baby Ruth, after seven decades of being owned by the  Curtis Candy Company was then purchased by Nabisco and now is currently owned by Nest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2"/>
          <p:cNvSpPr/>
          <p:nvPr/>
        </p:nvSpPr>
        <p:spPr>
          <a:xfrm>
            <a:off x="6553080" y="5105520"/>
            <a:ext cx="2438640" cy="14655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You Eat this tasty Product you might find yourself playing baseball just as good as Babe Ruth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5"/>
          <p:cNvSpPr/>
          <p:nvPr/>
        </p:nvSpPr>
        <p:spPr>
          <a:xfrm>
            <a:off x="3657600" y="1981080"/>
            <a:ext cx="2666880" cy="283716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Curtiss Candy Company chartered an airplane and dropped the Baby Ruth Candy Bar by parachutes to cities in more than forty states. The company also began a campaign that placed four colorful advertisements in national magaz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19" descr="http://www.scripophily.com/webcart/vigs/curtisscandycovig.jpg"/>
          <p:cNvPicPr/>
          <p:nvPr/>
        </p:nvPicPr>
        <p:blipFill>
          <a:blip r:embed="rId2"/>
          <a:stretch/>
        </p:blipFill>
        <p:spPr>
          <a:xfrm>
            <a:off x="3352680" y="5257800"/>
            <a:ext cx="2743200" cy="11667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1" descr="http://tbn2.google.com/images?q=tbn:7Ce28GdxsOiMTM:http://pgteenspace.files.wordpress.com/2008/06/nestle-logo.jpg"/>
          <p:cNvPicPr/>
          <p:nvPr/>
        </p:nvPicPr>
        <p:blipFill>
          <a:blip r:embed="rId3"/>
          <a:stretch/>
        </p:blipFill>
        <p:spPr>
          <a:xfrm>
            <a:off x="7010280" y="3733920"/>
            <a:ext cx="150840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9:10:42Z</dcterms:created>
  <dc:creator>jacobmf</dc:creator>
  <dc:description/>
  <dc:language>en-US</dc:language>
  <cp:lastModifiedBy>jacobmf</cp:lastModifiedBy>
  <dcterms:modified xsi:type="dcterms:W3CDTF">2009-02-12T18:56:54Z</dcterms:modified>
  <cp:revision>14</cp:revision>
  <dc:subject/>
  <dc:title>Slide 1</dc:title>
</cp:coreProperties>
</file>