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6167-0EB9-4413-A37F-1812941E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BCDF-5EE8-4999-ABFF-1933E55A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294-5D8D-4754-9515-97C08F2F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74E-0346-4309-B3F0-77DD7C9B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D3AD-9FF3-4324-A72C-D0274BEA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CA0B-CF0B-44BE-AC80-857E7D30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150E-104E-47B0-A98D-E81DD74A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5BCA-65F0-48E1-B42C-6C4F493A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76B9-36C0-4B9A-A115-E79DB72B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AEB8-0D50-4B3E-ABB7-3359FF9B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2AA0-6507-49B9-B139-63BE2F6F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35E7-1737-4D5F-9D80-AC5141CB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6196-E69B-4038-8C8F-AA272F11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4403-784F-4099-AFBE-F8354576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1F2F-7DF3-4A51-A7C1-1045D68D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73CB-2750-4EA0-BD5B-6436E5B5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C54F-316F-4A7E-8588-FF375D2E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2578F-103C-473F-9227-0B789208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B55E4-4E80-4C10-B676-2130C105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A1E20-E290-4971-8DC8-A51152E7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0B255-3ED0-4FD1-A261-94C0D24A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B4A17-DF62-41E1-9B15-19AE51C0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53E-B0A3-4197-B62C-4D92D9F8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E8B00-5555-40E6-88C5-5CD9883F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48CBA-3F2F-4031-86F4-900E08DC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152F3-5856-488A-83D6-E357C978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41229-782F-4166-BC72-6EA7F7B5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6076B-8F9A-4D0F-85A3-3E739206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6B7E1-9CA5-423E-979F-E6CAFC6C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AAEB-1816-4480-899E-15F4624E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A5E71-98C5-49BD-9720-A38BA3B4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3F62F-0062-450C-A8B3-44F285B2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F3B70-C667-483D-A0D1-9158B66E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A30-1990-4509-B71E-37F0592E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26B45-C9F6-4E4E-8F7E-75DB5EB5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1FB3F-E2BE-4DCB-A2D1-E3B90176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79EDC-5776-41DD-A21C-C252A47F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6D94E-F361-41EB-95B9-5DC36DFB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CD326-8D10-4AF7-AD22-FF2AF557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0A4F5-2733-4B40-9C07-1AB3D559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BE9BA-00F8-4720-863B-D24BB412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31A81-0362-4862-9F92-2D77003D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AD4FA-A8E0-4D83-8F9D-7DC368F8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9FC7B-D066-48DF-8CA2-39C3371F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587-8447-4A6F-9B39-536CC0A7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3E12B-49BD-43E1-8C48-FCF97F1B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0EFA3-5614-49EF-834A-83785DAB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F0553-4471-4193-BB5E-956F500D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BFCAC-879E-47D2-8993-FFB10851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4C820-2B48-4655-B8BB-D8161836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0440C-7BBC-4052-A884-B0BD844C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0F966-C940-4CCC-9089-562891CD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346DC-F359-47C3-B4F6-2E8F80A1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1B2C2-695A-4083-889D-C041967A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141BE-031C-480D-80ED-17C56C40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FC3-6059-42CB-90DF-B443ED37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2386D-E7A9-4F8A-8E2A-CF8FE810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2B2-7730-40DA-8F17-8C279F81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EBB4-E490-4945-8651-B475BF29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07F-7F74-4907-B90C-C12C9C4E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8138-F506-4F2F-A909-7E97CAB3CD4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5911-B521-4DCF-93B8-4307C736FD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C851-218C-4EB9-A3D0-37F7ED72CE4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AA09-D571-4E5F-ABEB-77BD03D4A03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5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6A32-3C02-4F53-9940-A3FA3DE36E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343040" y="-36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Baby Ruth Candy 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2" descr="http://blogs.chron.com/sportsjustice/archives/Baby%20Ruth.jpg"/>
          <p:cNvPicPr/>
          <p:nvPr/>
        </p:nvPicPr>
        <p:blipFill>
          <a:blip r:embed="rId1"/>
          <a:stretch/>
        </p:blipFill>
        <p:spPr>
          <a:xfrm>
            <a:off x="4876920" y="762120"/>
            <a:ext cx="3279600" cy="9903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8"/>
          <p:cNvSpPr/>
          <p:nvPr/>
        </p:nvSpPr>
        <p:spPr>
          <a:xfrm>
            <a:off x="380880" y="152280"/>
            <a:ext cx="2971800" cy="37530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by Ruth Candy Bar was created by Otto Y. Schnering in 1920. The candy bar was first the Kandy Kate, a bar that had a pastry center topped with nuts and coated with chocolate. Schnering then changed it to peanuts covered with chocolate and nougat which is now called the Baby R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6629400" y="1981080"/>
            <a:ext cx="2286000" cy="14655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by Ruth Candy Bar is the “sweetest story ever told” and “the world’s most popular candy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380880" y="4114800"/>
            <a:ext cx="2133720" cy="25628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by Ruth, after seven decades of being owned by the  Curtis Candy Company was then purchased by Nabisco and now is currently owned by Nes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6553080" y="5105520"/>
            <a:ext cx="2438640" cy="14655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Eat this tasty Product you might find yourself playing baseball just as good as Babe Ruth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3657600" y="1981080"/>
            <a:ext cx="2666880" cy="283716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tiss Candy Company chartered an airplane and dropped the Baby Ruth Candy Bar by parachutes to cities in more than forty states. The company also began a campaign that placed four colorful advertisements in national magaz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9" descr="http://www.scripophily.com/webcart/vigs/curtisscandycovig.jpg"/>
          <p:cNvPicPr/>
          <p:nvPr/>
        </p:nvPicPr>
        <p:blipFill>
          <a:blip r:embed="rId2"/>
          <a:stretch/>
        </p:blipFill>
        <p:spPr>
          <a:xfrm>
            <a:off x="3352680" y="5257800"/>
            <a:ext cx="2743200" cy="1166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http://tbn2.google.com/images?q=tbn:7Ce28GdxsOiMTM:http://pgteenspace.files.wordpress.com/2008/06/nestle-logo.jpg"/>
          <p:cNvPicPr/>
          <p:nvPr/>
        </p:nvPicPr>
        <p:blipFill>
          <a:blip r:embed="rId3"/>
          <a:stretch/>
        </p:blipFill>
        <p:spPr>
          <a:xfrm>
            <a:off x="7010280" y="3733920"/>
            <a:ext cx="15084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9:10:42Z</dcterms:created>
  <dc:creator>jacobmf</dc:creator>
  <dc:description/>
  <dc:language>en-US</dc:language>
  <cp:lastModifiedBy>jacobmf</cp:lastModifiedBy>
  <dcterms:modified xsi:type="dcterms:W3CDTF">2009-02-12T18:56:54Z</dcterms:modified>
  <cp:revision>14</cp:revision>
  <dc:subject/>
  <dc:title>Slide 1</dc:title>
</cp:coreProperties>
</file>