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B0E-72D7-4EA8-972A-196A7A90E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75B-76DC-412F-8699-07F2C577B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BB7-B9EE-4603-8420-54DACF6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6DF-599B-40CC-AF05-F17EB0F7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0D6-36BB-46B8-9C53-F91D08EE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113-A9F1-45D1-9957-CC98BA09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97D-B009-42B9-A650-387E3DA8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F91-C52A-44E3-9A70-7225A70B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9E2-EAA6-4160-80FE-4D3CDD9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AD1-99DF-4073-9BBF-D751B147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B2E-B3ED-492B-B1F9-88F51934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E9E-D59A-436C-BC74-65737FC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E87-7FE2-439C-B382-A5E67F5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3B6-544F-4C95-AA74-A09E905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EC73-B951-4508-92D7-0C1E63D08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Justin\AppData\Local\Microsoft\Windows\Temporary Internet Files\Content.IE5\HW8X40NZ\MPj0438516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233280"/>
            <a:ext cx="8763120" cy="647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Justin\AppData\Local\Microsoft\Windows\Temporary Internet Files\Content.IE5\HW8X40NZ\MCj02342890000[1].wmf"/>
          <p:cNvPicPr/>
          <p:nvPr/>
        </p:nvPicPr>
        <p:blipFill>
          <a:blip r:embed="rId2"/>
          <a:stretch/>
        </p:blipFill>
        <p:spPr>
          <a:xfrm rot="21099000">
            <a:off x="6324480" y="4647960"/>
            <a:ext cx="25005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Justin\AppData\Local\Microsoft\Windows\Temporary Internet Files\Content.IE5\EFXCZ3AJ\MCPE07186_0000[1].wmf"/>
          <p:cNvPicPr/>
          <p:nvPr/>
        </p:nvPicPr>
        <p:blipFill>
          <a:blip r:embed="rId3"/>
          <a:stretch/>
        </p:blipFill>
        <p:spPr>
          <a:xfrm rot="21412200">
            <a:off x="456840" y="304560"/>
            <a:ext cx="2022480" cy="246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552680" cy="1004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 rot="21387600">
            <a:off x="2226240" y="463320"/>
            <a:ext cx="48387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DokChampa"/>
              </a:rPr>
              <a:t>Dirty laundry? </a:t>
            </a:r>
            <a:r>
              <a:rPr b="1" lang="en-US" sz="4000" spc="-1" strike="noStrike">
                <a:solidFill>
                  <a:srgbClr val="000000"/>
                </a:solidFill>
                <a:latin typeface="DokChampa"/>
              </a:rPr>
              <a:t>Wash</a:t>
            </a:r>
            <a:r>
              <a:rPr b="1" lang="en-US" sz="1900" spc="-1" strike="noStrike">
                <a:solidFill>
                  <a:srgbClr val="000000"/>
                </a:solidFill>
                <a:latin typeface="DokChampa"/>
              </a:rPr>
              <a:t> it </a:t>
            </a:r>
            <a:r>
              <a:rPr b="1" lang="en-US" sz="2100" spc="-1" strike="noStrike">
                <a:solidFill>
                  <a:srgbClr val="000000"/>
                </a:solidFill>
                <a:latin typeface="DokChampa"/>
              </a:rPr>
              <a:t>with</a:t>
            </a:r>
            <a:r>
              <a:rPr b="1" lang="en-US" sz="1900" spc="-1" strike="noStrike">
                <a:solidFill>
                  <a:srgbClr val="000000"/>
                </a:solidFill>
                <a:latin typeface="DokChampa"/>
              </a:rPr>
              <a:t> Maytag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94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8600" y="3352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any introduced several models of washing machines with great success, including the Gyrofoam model which combined an aluminum tub with washing motion to push water through cloth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581280" y="1523880"/>
            <a:ext cx="533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fore the washing machine was invented Frederick L. Maytag was a farmer. He was working for a company named Parsons Band-Cutter &amp; Self Feeder Company and later he brought it out and renamed it to Maytag Company. He built the first washing machine 1907. Maytag sold over a million of washing machines in 1927. His company is located in Newton, Io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5486400" y="312408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2"/>
          <p:cNvSpPr/>
          <p:nvPr/>
        </p:nvSpPr>
        <p:spPr>
          <a:xfrm>
            <a:off x="60948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80880" y="54100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2006 the company was brought out by whirlpool. “Heavy appliance manufacturer, a predecessor of which was founded in 1911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6"/>
          <a:stretch/>
        </p:blipFill>
        <p:spPr>
          <a:xfrm>
            <a:off x="4191120" y="5410080"/>
            <a:ext cx="1708200" cy="93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4191120" y="1066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LE 15%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2:24:36Z</dcterms:created>
  <dc:creator>Justin</dc:creator>
  <dc:description/>
  <dc:language>en-US</dc:language>
  <cp:lastModifiedBy>allisonc</cp:lastModifiedBy>
  <dcterms:modified xsi:type="dcterms:W3CDTF">2009-02-09T16:28:46Z</dcterms:modified>
  <cp:revision>9</cp:revision>
  <dc:subject/>
  <dc:title>Slide 1</dc:title>
</cp:coreProperties>
</file>