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7C78-1E4E-4C82-8849-414344552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9246-0DCB-407A-8391-816775C9D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9DB-6579-4EB6-B6A4-4F612EEA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C02-4249-4AC4-A33E-DB256235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3A3-A646-432D-9595-6ABB99A5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6BE-1DF7-481F-B94F-70C4E422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A20-8894-4A7C-94C0-015F27BC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6A7-B579-45CC-AFB6-11B2856C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904-FBC9-468B-930C-45BA98E7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FA9-D925-49E6-81C7-CA8E35A9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340-9CD9-43E0-8DF4-F343CC9D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DD6-1378-406D-A2FE-D924018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513-7363-4F3B-8E6A-59A01264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5C4-3040-4BDA-AA46-A53C7023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9CBE-B0E1-4322-AB27-E4BC248B5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Justin\AppData\Local\Microsoft\Windows\Temporary Internet Files\Content.IE5\HW8X40NZ\MPj0438516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233280"/>
            <a:ext cx="8763120" cy="647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Justin\AppData\Local\Microsoft\Windows\Temporary Internet Files\Content.IE5\HW8X40NZ\MCj02342890000[1].wmf"/>
          <p:cNvPicPr/>
          <p:nvPr/>
        </p:nvPicPr>
        <p:blipFill>
          <a:blip r:embed="rId2"/>
          <a:stretch/>
        </p:blipFill>
        <p:spPr>
          <a:xfrm rot="21099000">
            <a:off x="6324480" y="4647960"/>
            <a:ext cx="250056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Justin\AppData\Local\Microsoft\Windows\Temporary Internet Files\Content.IE5\EFXCZ3AJ\MCPE07186_0000[1].wmf"/>
          <p:cNvPicPr/>
          <p:nvPr/>
        </p:nvPicPr>
        <p:blipFill>
          <a:blip r:embed="rId3"/>
          <a:stretch/>
        </p:blipFill>
        <p:spPr>
          <a:xfrm rot="21412200">
            <a:off x="456840" y="304560"/>
            <a:ext cx="2022480" cy="246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552680" cy="1004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 rot="21387600">
            <a:off x="2226240" y="463320"/>
            <a:ext cx="48387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DokChampa"/>
              </a:rPr>
              <a:t>Dirty laundry? </a:t>
            </a:r>
            <a:r>
              <a:rPr b="1" lang="en-US" sz="4000" spc="-1" strike="noStrike">
                <a:solidFill>
                  <a:srgbClr val="000000"/>
                </a:solidFill>
                <a:latin typeface="DokChampa"/>
              </a:rPr>
              <a:t>Wash</a:t>
            </a:r>
            <a:r>
              <a:rPr b="1" lang="en-US" sz="1900" spc="-1" strike="noStrike">
                <a:solidFill>
                  <a:srgbClr val="000000"/>
                </a:solidFill>
                <a:latin typeface="DokChampa"/>
              </a:rPr>
              <a:t> it </a:t>
            </a:r>
            <a:r>
              <a:rPr b="1" lang="en-US" sz="2100" spc="-1" strike="noStrike">
                <a:solidFill>
                  <a:srgbClr val="000000"/>
                </a:solidFill>
                <a:latin typeface="DokChampa"/>
              </a:rPr>
              <a:t>with</a:t>
            </a:r>
            <a:r>
              <a:rPr b="1" lang="en-US" sz="1900" spc="-1" strike="noStrike">
                <a:solidFill>
                  <a:srgbClr val="000000"/>
                </a:solidFill>
                <a:latin typeface="DokChampa"/>
              </a:rPr>
              <a:t> Maytag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094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228600" y="3352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any introduced several models of washing machines with great success, including the Gyrofoam model which combined an aluminum tub with washing motion to push water through clothe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3581280" y="1523880"/>
            <a:ext cx="5334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fore the washing machine was invented Frederick L. Maytag was a farmer. He was working for a company named Parsons Band-Cutter &amp; Self Feeder Company and later he brought it out and renamed it to Maytag Company. He built the first washing machine 1907. Maytag sold over a million of washing machines in 1927. His company is located in Newton, Iow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5"/>
          <a:stretch/>
        </p:blipFill>
        <p:spPr>
          <a:xfrm>
            <a:off x="5486400" y="312408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2"/>
          <p:cNvSpPr/>
          <p:nvPr/>
        </p:nvSpPr>
        <p:spPr>
          <a:xfrm>
            <a:off x="609480" y="4952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80880" y="541008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2006 the company was brought out by whirlpool. “Heavy appliance manufacturer, a predecessor of which was founded in 1911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6"/>
          <a:stretch/>
        </p:blipFill>
        <p:spPr>
          <a:xfrm>
            <a:off x="4191120" y="5410080"/>
            <a:ext cx="1708200" cy="933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"/>
          <p:cNvSpPr/>
          <p:nvPr/>
        </p:nvSpPr>
        <p:spPr>
          <a:xfrm>
            <a:off x="4191120" y="1066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LE 15%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2:24:36Z</dcterms:created>
  <dc:creator>Justin</dc:creator>
  <dc:description/>
  <dc:language>en-US</dc:language>
  <cp:lastModifiedBy>allisonc</cp:lastModifiedBy>
  <dcterms:modified xsi:type="dcterms:W3CDTF">2009-02-09T16:28:46Z</dcterms:modified>
  <cp:revision>9</cp:revision>
  <dc:subject/>
  <dc:title>Slide 1</dc:title>
</cp:coreProperties>
</file>